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4FF42-7E35-45CC-8A2E-F7F528CDD16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1F89E-742B-4D68-82EA-2E78AEBB47E8}" type="slidenum">
              <a:rPr b="0" lang="ru-RU" sz="1200" spc="-1" strike="noStrike">
                <a:solidFill>
                  <a:srgbClr val="cc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41938-B777-411A-9629-0E918DAAC251}" type="slidenum">
              <a:rPr b="0" lang="ru-RU" sz="1200" spc="-1" strike="noStrike">
                <a:solidFill>
                  <a:srgbClr val="cc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5714A-6C4E-498F-9D4D-AE064BB9ECA8}" type="slidenum">
              <a:rPr b="0" lang="ru-RU" sz="1200" spc="-1" strike="noStrike">
                <a:solidFill>
                  <a:srgbClr val="cc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E1CA1-AA0D-4395-982F-F351ED6D9163}" type="slidenum">
              <a:rPr b="0" lang="ru-RU" sz="1200" spc="-1" strike="noStrike">
                <a:solidFill>
                  <a:srgbClr val="cc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E9E69-8F3A-4C71-8518-80D1F0F74468}" type="slidenum">
              <a:rPr b="0" lang="ru-RU" sz="1200" spc="-1" strike="noStrike">
                <a:solidFill>
                  <a:srgbClr val="cc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F2D49-00BA-449F-B3CF-C43755A87759}" type="slidenum">
              <a:rPr b="0" lang="ru-RU" sz="1200" spc="-1" strike="noStrike">
                <a:solidFill>
                  <a:srgbClr val="cc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8566B-CD85-4E77-8F9C-809FB2B48E42}" type="slidenum">
              <a:rPr b="0" lang="ru-RU" sz="1200" spc="-1" strike="noStrike">
                <a:solidFill>
                  <a:srgbClr val="cc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DA2A8-6178-42BE-BC5A-CB94CBD20DBF}" type="slidenum">
              <a:rPr b="0" lang="ru-RU" sz="1200" spc="-1" strike="noStrike">
                <a:solidFill>
                  <a:srgbClr val="cc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512FD-12EA-4A6D-A884-77EC7E510144}" type="slidenum">
              <a:rPr b="0" lang="ru-RU" sz="1200" spc="-1" strike="noStrike">
                <a:solidFill>
                  <a:srgbClr val="cc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0B971-57D5-4453-92F1-7E4D61279E87}" type="slidenum">
              <a:rPr b="0" lang="ru-RU" sz="1200" spc="-1" strike="noStrike">
                <a:solidFill>
                  <a:srgbClr val="cc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75D26-8748-4455-9EE6-22566329882C}" type="slidenum">
              <a:rPr b="0" lang="ru-RU" sz="1200" spc="-1" strike="noStrike">
                <a:solidFill>
                  <a:srgbClr val="cc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C2298-E30E-408B-9673-0A3552A40961}" type="slidenum">
              <a:rPr b="0" lang="ru-RU" sz="1200" spc="-1" strike="noStrike">
                <a:solidFill>
                  <a:srgbClr val="cc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C9B6-2808-412B-8680-2089DF09E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FE65-6893-44F3-8BC2-D37243163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EA66-2060-452E-A38D-16C347C9D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A10C-E2DD-4386-9D4F-013AD1F28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F1581-54A6-4A0D-A19F-C3D8BB26E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EEB09-E3C8-4DBF-BDB8-9F42F4B0D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95925-66A9-4D4B-B288-CFAD70AD9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6C240-1713-4B29-A455-B054E0D82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743A4-683D-43A0-81AB-DC59E757C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F3E8B-72D1-4F7F-BCCB-8C404110D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8AE6B-FD01-439A-9536-78AABE7D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5FC6-9B20-4BE8-AAF2-AE4C19E97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1663C-F3E8-42B7-A473-B631167F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EDE67-932F-4348-908C-07EA8C70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0952B-A92C-4448-B24A-26AF4974D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9911A-84C9-4ABB-9C1D-189087302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65957-6DDA-47C1-826F-5554593BA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43393-00EB-4AD1-B140-181BB236D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35671-8612-41A7-B8E7-39130588F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2E4E3-914B-447D-A79E-79D51E229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9EA4D-F46C-4208-8EFA-7E57B1290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65FB4-A8E0-4DB2-9A0D-0165812FD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B853-FEF6-43C3-84C1-098B82D25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24820-7F49-4CF5-A1F8-AE034709D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72CA9-3DFF-4F0B-A056-0EBB00AB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880D7-8236-44FF-A36F-A6171EDAE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0CEDB-3248-4A82-AFA7-91379F3F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D0688-7624-49F1-8E84-84F5FDEC2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D727C-E341-4EFD-A6CA-736A883C8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F6F29-3DFB-4F50-95CD-5D5F78A67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CC27-8187-4BB8-8AC7-C44F33063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E621-9CCD-45A9-BE8F-5883A73F7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6AAE-F04F-4EA3-ABBC-D59A000F0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F4E1-7723-4209-8018-E2CCC530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F45E-FC1D-4E09-B8FB-9636AB9E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E78E-48C6-498F-AAD6-F0254322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4080" y="-21600"/>
            <a:ext cx="2869560" cy="3275640"/>
            <a:chOff x="6274080" y="-21600"/>
            <a:chExt cx="286956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4080" y="-21600"/>
              <a:ext cx="2869560" cy="2269080"/>
              <a:chOff x="6274080" y="-21600"/>
              <a:chExt cx="286956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a4"/>
                    </a:gs>
                    <a:gs pos="100000">
                      <a:srgbClr val="00006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ffff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4e8ac"/>
                    </a:gs>
                    <a:gs pos="100000">
                      <a:srgbClr val="0000a4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ffff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4080" y="-21600"/>
                <a:ext cx="2866320" cy="2269080"/>
                <a:chOff x="6274080" y="-21600"/>
                <a:chExt cx="286632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320" y="842760"/>
                  <a:ext cx="1064160" cy="1140840"/>
                  <a:chOff x="7834320" y="842760"/>
                  <a:chExt cx="1064160" cy="114084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560"/>
                    <a:ext cx="884880" cy="160920"/>
                  </a:xfrm>
                  <a:custGeom>
                    <a:avLst/>
                    <a:gdLst>
                      <a:gd name="textAreaLeft" fmla="*/ 0 w 884880"/>
                      <a:gd name="textAreaRight" fmla="*/ 885240 w 88488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6360" y="1602720"/>
                    <a:ext cx="473040" cy="249840"/>
                  </a:xfrm>
                  <a:custGeom>
                    <a:avLst/>
                    <a:gdLst>
                      <a:gd name="textAreaLeft" fmla="*/ 0 w 473040"/>
                      <a:gd name="textAreaRight" fmla="*/ 473400 w 473040"/>
                      <a:gd name="textAreaTop" fmla="*/ 0 h 249840"/>
                      <a:gd name="textAreaBottom" fmla="*/ 250200 h 2498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>
                      <a:gd name="textAreaLeft" fmla="*/ 0 w 930960"/>
                      <a:gd name="textAreaRight" fmla="*/ 931320 w 93096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>
                      <a:gd name="textAreaLeft" fmla="*/ 0 w 500400"/>
                      <a:gd name="textAreaRight" fmla="*/ 500760 w 50040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>
                      <a:gd name="textAreaLeft" fmla="*/ 0 w 889920"/>
                      <a:gd name="textAreaRight" fmla="*/ 890280 w 889920"/>
                      <a:gd name="textAreaTop" fmla="*/ 0 h 155160"/>
                      <a:gd name="textAreaBottom" fmla="*/ 155520 h 155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>
                      <a:gd name="textAreaLeft" fmla="*/ 0 w 477360"/>
                      <a:gd name="textAreaRight" fmla="*/ 477720 w 477360"/>
                      <a:gd name="textAreaTop" fmla="*/ 0 h 244440"/>
                      <a:gd name="textAreaBottom" fmla="*/ 244800 h 244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6840" y="695880"/>
                  <a:ext cx="1303560" cy="669240"/>
                  <a:chOff x="783684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460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4600"/>
                      <a:gd name="textAreaBottom" fmla="*/ 174960 h 1746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51880" y="1033920"/>
                    <a:ext cx="458280" cy="266760"/>
                  </a:xfrm>
                  <a:custGeom>
                    <a:avLst/>
                    <a:gdLst>
                      <a:gd name="textAreaLeft" fmla="*/ 0 w 458280"/>
                      <a:gd name="textAreaRight" fmla="*/ 458640 w 458280"/>
                      <a:gd name="textAreaTop" fmla="*/ 0 h 266760"/>
                      <a:gd name="textAreaBottom" fmla="*/ 267120 h 2667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280" cy="417240"/>
                  <a:chOff x="7852680" y="657720"/>
                  <a:chExt cx="1223280" cy="41724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000" cy="164160"/>
                  </a:xfrm>
                  <a:custGeom>
                    <a:avLst/>
                    <a:gdLst>
                      <a:gd name="textAreaLeft" fmla="*/ 0 w 792000"/>
                      <a:gd name="textAreaRight" fmla="*/ 792360 w 792000"/>
                      <a:gd name="textAreaTop" fmla="*/ 0 h 164160"/>
                      <a:gd name="textAreaBottom" fmla="*/ 164520 h 164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7400"/>
                    <a:ext cx="425160" cy="250200"/>
                  </a:xfrm>
                  <a:custGeom>
                    <a:avLst/>
                    <a:gdLst>
                      <a:gd name="textAreaLeft" fmla="*/ 0 w 425160"/>
                      <a:gd name="textAreaRight" fmla="*/ 425520 w 425160"/>
                      <a:gd name="textAreaTop" fmla="*/ 0 h 250200"/>
                      <a:gd name="textAreaBottom" fmla="*/ 250560 h 250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52680"/>
                    <a:ext cx="720360" cy="10764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07640"/>
                      <a:gd name="textAreaBottom" fmla="*/ 108000 h 1076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>
                      <a:gd name="textAreaLeft" fmla="*/ 0 w 387360"/>
                      <a:gd name="textAreaRight" fmla="*/ 38772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840" y="419400"/>
                  <a:ext cx="983520" cy="327240"/>
                  <a:chOff x="7845840" y="419400"/>
                  <a:chExt cx="983520" cy="32724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7360"/>
                    <a:ext cx="635040" cy="106920"/>
                  </a:xfrm>
                  <a:custGeom>
                    <a:avLst/>
                    <a:gdLst>
                      <a:gd name="textAreaLeft" fmla="*/ 0 w 635040"/>
                      <a:gd name="textAreaRight" fmla="*/ 635400 w 635040"/>
                      <a:gd name="textAreaTop" fmla="*/ 0 h 106920"/>
                      <a:gd name="textAreaBottom" fmla="*/ 107280 h 106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320" y="456120"/>
                    <a:ext cx="340200" cy="177480"/>
                  </a:xfrm>
                  <a:custGeom>
                    <a:avLst/>
                    <a:gdLst>
                      <a:gd name="textAreaLeft" fmla="*/ 0 w 340200"/>
                      <a:gd name="textAreaRight" fmla="*/ 340560 w 340200"/>
                      <a:gd name="textAreaTop" fmla="*/ 0 h 177480"/>
                      <a:gd name="textAreaBottom" fmla="*/ 177840 h 1774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9040" y="905040"/>
                  <a:ext cx="1060920" cy="1141920"/>
                  <a:chOff x="6539040" y="905040"/>
                  <a:chExt cx="1060920" cy="114192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3200" y="1193040"/>
                    <a:ext cx="879120" cy="160200"/>
                  </a:xfrm>
                  <a:custGeom>
                    <a:avLst/>
                    <a:gdLst>
                      <a:gd name="textAreaLeft" fmla="*/ 360 w 879120"/>
                      <a:gd name="textAreaRight" fmla="*/ 879840 w 87912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8120" y="1665720"/>
                    <a:ext cx="471960" cy="250920"/>
                  </a:xfrm>
                  <a:custGeom>
                    <a:avLst/>
                    <a:gdLst>
                      <a:gd name="textAreaLeft" fmla="*/ -360 w 471960"/>
                      <a:gd name="textAreaRight" fmla="*/ 471960 w 47196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840"/>
                  <a:ext cx="1266120" cy="1051920"/>
                  <a:chOff x="6303960" y="861840"/>
                  <a:chExt cx="1266120" cy="105192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4400" y="1112400"/>
                    <a:ext cx="928800" cy="177840"/>
                  </a:xfrm>
                  <a:custGeom>
                    <a:avLst/>
                    <a:gdLst>
                      <a:gd name="textAreaLeft" fmla="*/ 360 w 928800"/>
                      <a:gd name="textAreaRight" fmla="*/ 929520 w 92880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880" y="1515600"/>
                    <a:ext cx="499320" cy="279720"/>
                  </a:xfrm>
                  <a:custGeom>
                    <a:avLst/>
                    <a:gdLst>
                      <a:gd name="textAreaLeft" fmla="*/ -360 w 499320"/>
                      <a:gd name="textAreaRight" fmla="*/ 499320 w 49932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7040" y="827280"/>
                  <a:ext cx="1287720" cy="828360"/>
                  <a:chOff x="6287040" y="827280"/>
                  <a:chExt cx="1287720" cy="82836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6000" y="1016640"/>
                    <a:ext cx="890280" cy="157320"/>
                  </a:xfrm>
                  <a:custGeom>
                    <a:avLst/>
                    <a:gdLst>
                      <a:gd name="textAreaLeft" fmla="*/ -360 w 890280"/>
                      <a:gd name="textAreaRight" fmla="*/ 890280 w 890280"/>
                      <a:gd name="textAreaTop" fmla="*/ 0 h 157320"/>
                      <a:gd name="textAreaBottom" fmla="*/ 157680 h 1573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5480" y="1321920"/>
                    <a:ext cx="477360" cy="239760"/>
                  </a:xfrm>
                  <a:custGeom>
                    <a:avLst/>
                    <a:gdLst>
                      <a:gd name="textAreaLeft" fmla="*/ 360 w 477360"/>
                      <a:gd name="textAreaRight" fmla="*/ 478080 w 47736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4080" y="787320"/>
                  <a:ext cx="1302840" cy="668520"/>
                  <a:chOff x="6274080" y="787320"/>
                  <a:chExt cx="130284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6884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68840"/>
                      <a:gd name="textAreaBottom" fmla="*/ 169200 h 168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600" y="1123560"/>
                    <a:ext cx="461520" cy="267120"/>
                  </a:xfrm>
                  <a:custGeom>
                    <a:avLst/>
                    <a:gdLst>
                      <a:gd name="textAreaLeft" fmla="*/ 360 w 461520"/>
                      <a:gd name="textAreaRight" fmla="*/ 462240 w 461520"/>
                      <a:gd name="textAreaTop" fmla="*/ 0 h 267120"/>
                      <a:gd name="textAreaBottom" fmla="*/ 267480 h 2671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880" y="801720"/>
                    <a:ext cx="792000" cy="156960"/>
                  </a:xfrm>
                  <a:custGeom>
                    <a:avLst/>
                    <a:gdLst>
                      <a:gd name="textAreaLeft" fmla="*/ 360 w 792000"/>
                      <a:gd name="textAreaRight" fmla="*/ 792720 w 792000"/>
                      <a:gd name="textAreaTop" fmla="*/ 0 h 156960"/>
                      <a:gd name="textAreaBottom" fmla="*/ 157320 h 1569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92440"/>
                    <a:ext cx="425160" cy="245520"/>
                  </a:xfrm>
                  <a:custGeom>
                    <a:avLst/>
                    <a:gdLst>
                      <a:gd name="textAreaLeft" fmla="*/ -360 w 425160"/>
                      <a:gd name="textAreaRight" fmla="*/ 425160 w 425160"/>
                      <a:gd name="textAreaTop" fmla="*/ 0 h 245520"/>
                      <a:gd name="textAreaBottom" fmla="*/ 245880 h 245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42680"/>
                    <a:ext cx="720360" cy="10800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08000"/>
                      <a:gd name="textAreaBottom" fmla="*/ 108360 h 108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>
                      <a:gd name="textAreaLeft" fmla="*/ 360 w 387360"/>
                      <a:gd name="textAreaRight" fmla="*/ 38808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>
                      <a:gd name="textAreaLeft" fmla="*/ 0 w 339120"/>
                      <a:gd name="textAreaRight" fmla="*/ 339120 w 339120"/>
                      <a:gd name="textAreaTop" fmla="*/ 0 h 174240"/>
                      <a:gd name="textAreaBottom" fmla="*/ 174600 h 174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>
                      <a:gd name="textAreaLeft" fmla="*/ -360 w 634680"/>
                      <a:gd name="textAreaRight" fmla="*/ 634680 w 634680"/>
                      <a:gd name="textAreaTop" fmla="*/ 0 h 108720"/>
                      <a:gd name="textAreaBottom" fmla="*/ 109080 h 108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custGeom>
                    <a:avLst/>
                    <a:gdLst>
                      <a:gd name="textAreaLeft" fmla="*/ -360 w 341640"/>
                      <a:gd name="textAreaRight" fmla="*/ 341640 w 341640"/>
                      <a:gd name="textAreaTop" fmla="*/ 0 h 169560"/>
                      <a:gd name="textAreaBottom" fmla="*/ 169560 h 169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>
                      <a:gd name="textAreaLeft" fmla="*/ -360 w 641160"/>
                      <a:gd name="textAreaRight" fmla="*/ 641160 w 6411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>
                      <a:gd name="textAreaLeft" fmla="*/ 360 w 344160"/>
                      <a:gd name="textAreaRight" fmla="*/ 344880 w 34416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>
                      <a:gd name="textAreaLeft" fmla="*/ 360 w 303120"/>
                      <a:gd name="textAreaRight" fmla="*/ 303840 w 30312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120" y="-21600"/>
                  <a:ext cx="465480" cy="808920"/>
                  <a:chOff x="7287120" y="-21600"/>
                  <a:chExt cx="465480" cy="80892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840" y="460440"/>
                    <a:ext cx="541080" cy="109440"/>
                  </a:xfrm>
                  <a:custGeom>
                    <a:avLst/>
                    <a:gdLst>
                      <a:gd name="textAreaLeft" fmla="*/ -360 w 541080"/>
                      <a:gd name="textAreaRight" fmla="*/ 541080 w 54108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3440" y="60120"/>
                    <a:ext cx="294480" cy="173520"/>
                  </a:xfrm>
                  <a:custGeom>
                    <a:avLst/>
                    <a:gdLst>
                      <a:gd name="textAreaLeft" fmla="*/ 360 w 294480"/>
                      <a:gd name="textAreaRight" fmla="*/ 295200 w 29448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3600"/>
                  <a:ext cx="964440" cy="461160"/>
                  <a:chOff x="7792920" y="273600"/>
                  <a:chExt cx="964440" cy="4611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>
                      <a:gd name="textAreaLeft" fmla="*/ 0 w 631800"/>
                      <a:gd name="textAreaRight" fmla="*/ 632160 w 63180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403480" y="329760"/>
                    <a:ext cx="333360" cy="17316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7160"/>
                  <a:ext cx="916200" cy="604440"/>
                  <a:chOff x="7737840" y="137160"/>
                  <a:chExt cx="916200" cy="60444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520"/>
                    <a:ext cx="635040" cy="110880"/>
                  </a:xfrm>
                  <a:custGeom>
                    <a:avLst/>
                    <a:gdLst>
                      <a:gd name="textAreaLeft" fmla="*/ 0 w 635040"/>
                      <a:gd name="textAreaRight" fmla="*/ 635400 w 63504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7640" y="212760"/>
                    <a:ext cx="335880" cy="173880"/>
                  </a:xfrm>
                  <a:custGeom>
                    <a:avLst/>
                    <a:gdLst>
                      <a:gd name="textAreaLeft" fmla="*/ 0 w 335880"/>
                      <a:gd name="textAreaRight" fmla="*/ 336240 w 33588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f5fd5"/>
                    </a:gs>
                    <a:gs pos="100000">
                      <a:srgbClr val="04e8ac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>
                    <a:gd name="textAreaLeft" fmla="*/ -360 w 282600"/>
                    <a:gd name="textAreaRight" fmla="*/ 282600 w 282600"/>
                    <a:gd name="textAreaTop" fmla="*/ 0 h 118440"/>
                    <a:gd name="textAreaBottom" fmla="*/ 118800 h 11844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6"/>
                    </a:gs>
                    <a:gs pos="100000">
                      <a:srgbClr val="8f5fd5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6200" y="-10800"/>
                  <a:ext cx="497160" cy="789840"/>
                  <a:chOff x="7666200" y="-10800"/>
                  <a:chExt cx="497160" cy="78984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5320" y="466560"/>
                    <a:ext cx="542520" cy="95040"/>
                  </a:xfrm>
                  <a:custGeom>
                    <a:avLst/>
                    <a:gdLst>
                      <a:gd name="textAreaLeft" fmla="*/ 0 w 542520"/>
                      <a:gd name="textAreaRight" fmla="*/ 542880 w 542520"/>
                      <a:gd name="textAreaTop" fmla="*/ 0 h 95040"/>
                      <a:gd name="textAreaBottom" fmla="*/ 95400 h 950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880" y="79200"/>
                    <a:ext cx="293040" cy="147600"/>
                  </a:xfrm>
                  <a:custGeom>
                    <a:avLst/>
                    <a:gdLst>
                      <a:gd name="textAreaLeft" fmla="*/ 0 w 293040"/>
                      <a:gd name="textAreaRight" fmla="*/ 293400 w 293040"/>
                      <a:gd name="textAreaTop" fmla="*/ 0 h 147600"/>
                      <a:gd name="textAreaBottom" fmla="*/ 147960 h 1476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>
                      <a:gd name="textAreaLeft" fmla="*/ 0 w 591840"/>
                      <a:gd name="textAreaRight" fmla="*/ 592200 w 591840"/>
                      <a:gd name="textAreaTop" fmla="*/ 0 h 137880"/>
                      <a:gd name="textAreaBottom" fmla="*/ 138240 h 137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>
                      <a:gd name="textAreaLeft" fmla="*/ 0 w 317520"/>
                      <a:gd name="textAreaRight" fmla="*/ 317880 w 31752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>
                      <a:gd name="textAreaLeft" fmla="*/ 0 w 489240"/>
                      <a:gd name="textAreaRight" fmla="*/ 489600 w 489240"/>
                      <a:gd name="textAreaTop" fmla="*/ 0 h 44640"/>
                      <a:gd name="textAreaBottom" fmla="*/ 45000 h 446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>
                      <a:gd name="textAreaLeft" fmla="*/ 0 w 262080"/>
                      <a:gd name="textAreaRight" fmla="*/ 262440 w 262080"/>
                      <a:gd name="textAreaTop" fmla="*/ 0 h 68400"/>
                      <a:gd name="textAreaBottom" fmla="*/ 68760 h 684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0400" y="930240"/>
                  <a:ext cx="914760" cy="1248120"/>
                  <a:chOff x="6710400" y="930240"/>
                  <a:chExt cx="914760" cy="124812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5840" y="1258200"/>
                    <a:ext cx="889560" cy="160560"/>
                  </a:xfrm>
                  <a:custGeom>
                    <a:avLst/>
                    <a:gdLst>
                      <a:gd name="textAreaLeft" fmla="*/ -360 w 889560"/>
                      <a:gd name="textAreaRight" fmla="*/ 889560 w 889560"/>
                      <a:gd name="textAreaTop" fmla="*/ 0 h 160560"/>
                      <a:gd name="textAreaBottom" fmla="*/ 160920 h 160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2560" y="1785960"/>
                    <a:ext cx="477360" cy="250560"/>
                  </a:xfrm>
                  <a:custGeom>
                    <a:avLst/>
                    <a:gdLst>
                      <a:gd name="textAreaLeft" fmla="*/ 360 w 477360"/>
                      <a:gd name="textAreaRight" fmla="*/ 478080 w 477360"/>
                      <a:gd name="textAreaTop" fmla="*/ 0 h 250560"/>
                      <a:gd name="textAreaBottom" fmla="*/ 250920 h 250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5320" y="979200"/>
                  <a:ext cx="616320" cy="1248480"/>
                  <a:chOff x="7015320" y="979200"/>
                  <a:chExt cx="61632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89040" y="1310040"/>
                    <a:ext cx="823320" cy="160200"/>
                  </a:xfrm>
                  <a:custGeom>
                    <a:avLst/>
                    <a:gdLst>
                      <a:gd name="textAreaLeft" fmla="*/ -360 w 823320"/>
                      <a:gd name="textAreaRight" fmla="*/ 823320 w 82332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5880" y="1852200"/>
                    <a:ext cx="436320" cy="250920"/>
                  </a:xfrm>
                  <a:custGeom>
                    <a:avLst/>
                    <a:gdLst>
                      <a:gd name="textAreaLeft" fmla="*/ 360 w 436320"/>
                      <a:gd name="textAreaRight" fmla="*/ 437040 w 43632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>
                      <a:gd name="textAreaLeft" fmla="*/ 360 w 785520"/>
                      <a:gd name="textAreaRight" fmla="*/ 786240 w 785520"/>
                      <a:gd name="textAreaTop" fmla="*/ 0 h 144360"/>
                      <a:gd name="textAreaBottom" fmla="*/ 144720 h 144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>
                      <a:gd name="textAreaLeft" fmla="*/ -360 w 420840"/>
                      <a:gd name="textAreaRight" fmla="*/ 420840 w 420840"/>
                      <a:gd name="textAreaTop" fmla="*/ 0 h 225360"/>
                      <a:gd name="textAreaBottom" fmla="*/ 225720 h 225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>
                      <a:gd name="textAreaLeft" fmla="*/ 0 w 884160"/>
                      <a:gd name="textAreaRight" fmla="*/ 88452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2000"/>
                      <a:gd name="textAreaBottom" fmla="*/ 252360 h 252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520"/>
                  <a:chOff x="7786800" y="956160"/>
                  <a:chExt cx="732600" cy="126252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custGeom>
                    <a:avLst/>
                    <a:gdLst>
                      <a:gd name="textAreaLeft" fmla="*/ 0 w 846360"/>
                      <a:gd name="textAreaRight" fmla="*/ 846720 w 84636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40680"/>
                    <a:ext cx="454320" cy="241200"/>
                  </a:xfrm>
                  <a:custGeom>
                    <a:avLst/>
                    <a:gdLst>
                      <a:gd name="textAreaLeft" fmla="*/ 0 w 454320"/>
                      <a:gd name="textAreaRight" fmla="*/ 454680 w 45432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10120" cy="1242360"/>
                  <a:chOff x="7757280" y="1005120"/>
                  <a:chExt cx="51012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600" y="1351440"/>
                    <a:ext cx="820800" cy="125280"/>
                  </a:xfrm>
                  <a:custGeom>
                    <a:avLst/>
                    <a:gdLst>
                      <a:gd name="textAreaLeft" fmla="*/ 0 w 820800"/>
                      <a:gd name="textAreaRight" fmla="*/ 821160 w 820800"/>
                      <a:gd name="textAreaTop" fmla="*/ 0 h 125280"/>
                      <a:gd name="textAreaBottom" fmla="*/ 125640 h 1252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3280" y="1908000"/>
                    <a:ext cx="439560" cy="198360"/>
                  </a:xfrm>
                  <a:custGeom>
                    <a:avLst/>
                    <a:gdLst>
                      <a:gd name="textAreaLeft" fmla="*/ 0 w 439560"/>
                      <a:gd name="textAreaRight" fmla="*/ 439920 w 43956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4320" y="1376640"/>
                    <a:ext cx="752400" cy="126360"/>
                  </a:xfrm>
                  <a:custGeom>
                    <a:avLst/>
                    <a:gdLst>
                      <a:gd name="textAreaLeft" fmla="*/ 0 w 752400"/>
                      <a:gd name="textAreaRight" fmla="*/ 752760 w 75240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2840" y="1899360"/>
                    <a:ext cx="407160" cy="197640"/>
                  </a:xfrm>
                  <a:custGeom>
                    <a:avLst/>
                    <a:gdLst>
                      <a:gd name="textAreaLeft" fmla="*/ 0 w 407160"/>
                      <a:gd name="textAreaRight" fmla="*/ 407520 w 407160"/>
                      <a:gd name="textAreaTop" fmla="*/ 0 h 197640"/>
                      <a:gd name="textAreaBottom" fmla="*/ 198000 h 197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600" y="1077840"/>
                  <a:ext cx="276480" cy="1131480"/>
                  <a:chOff x="7500600" y="1077840"/>
                  <a:chExt cx="27648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0960" y="1402560"/>
                    <a:ext cx="740160" cy="95760"/>
                  </a:xfrm>
                  <a:custGeom>
                    <a:avLst/>
                    <a:gdLst>
                      <a:gd name="textAreaLeft" fmla="*/ 0 w 740160"/>
                      <a:gd name="textAreaRight" fmla="*/ 740520 w 740160"/>
                      <a:gd name="textAreaTop" fmla="*/ 0 h 95760"/>
                      <a:gd name="textAreaBottom" fmla="*/ 96120 h 957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000" y="1928520"/>
                    <a:ext cx="396360" cy="151560"/>
                  </a:xfrm>
                  <a:custGeom>
                    <a:avLst/>
                    <a:gdLst>
                      <a:gd name="textAreaLeft" fmla="*/ 0 w 396360"/>
                      <a:gd name="textAreaRight" fmla="*/ 396720 w 396360"/>
                      <a:gd name="textAreaTop" fmla="*/ 0 h 151560"/>
                      <a:gd name="textAreaBottom" fmla="*/ 151920 h 151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>
                  <a:gd name="textAreaLeft" fmla="*/ 360 w 248400"/>
                  <a:gd name="textAreaRight" fmla="*/ 249120 w 24840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custGeom>
                <a:avLst/>
                <a:gdLst>
                  <a:gd name="textAreaLeft" fmla="*/ 360 w 1088640"/>
                  <a:gd name="textAreaRight" fmla="*/ 1089360 w 1088640"/>
                  <a:gd name="textAreaTop" fmla="*/ 0 h 1177920"/>
                  <a:gd name="textAreaBottom" fmla="*/ 1178280 h 117792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>
                  <a:gd name="textAreaLeft" fmla="*/ -360 w 634680"/>
                  <a:gd name="textAreaRight" fmla="*/ 634680 w 634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4640"/>
                  <a:gd name="textAreaBottom" fmla="*/ 1215000 h 121464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>
                  <a:gd name="textAreaLeft" fmla="*/ 0 w 514080"/>
                  <a:gd name="textAreaRight" fmla="*/ 514440 w 514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>
                  <a:gd name="textAreaLeft" fmla="*/ 0 w 730080"/>
                  <a:gd name="textAreaRight" fmla="*/ 730440 w 730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>
                  <a:gd name="textAreaLeft" fmla="*/ 0 w 223560"/>
                  <a:gd name="textAreaRight" fmla="*/ 223920 w 223560"/>
                  <a:gd name="textAreaTop" fmla="*/ -360 h 426600"/>
                  <a:gd name="textAreaBottom" fmla="*/ 426600 h 4266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custGeom>
                <a:avLst/>
                <a:gdLst>
                  <a:gd name="textAreaLeft" fmla="*/ -360 w 947160"/>
                  <a:gd name="textAreaRight" fmla="*/ 947160 w 947160"/>
                  <a:gd name="textAreaTop" fmla="*/ 0 h 1176480"/>
                  <a:gd name="textAreaBottom" fmla="*/ 1176840 h 117648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1179000"/>
                  <a:gd name="textAreaBottom" fmla="*/ 1179360 h 117900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>
                  <a:gd name="textAreaLeft" fmla="*/ 360 w 557280"/>
                  <a:gd name="textAreaRight" fmla="*/ 558000 w 55728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>
                  <a:gd name="textAreaLeft" fmla="*/ 0 w 777600"/>
                  <a:gd name="textAreaRight" fmla="*/ 777960 w 777600"/>
                  <a:gd name="textAreaTop" fmla="*/ 0 h 545760"/>
                  <a:gd name="textAreaBottom" fmla="*/ 546120 h 545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1520"/>
                  <a:gd name="textAreaBottom" fmla="*/ 731880 h 7315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>
                  <a:gd name="textAreaLeft" fmla="*/ 360 w 224640"/>
                  <a:gd name="textAreaRight" fmla="*/ 225360 w 22464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8f5fd5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cc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D9ED1-637B-447B-BB56-7963FD075A5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8f5f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28E80-0B8B-43B9-A84B-55FDC9876EE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2"/>
          <p:cNvGrpSpPr/>
          <p:nvPr/>
        </p:nvGrpSpPr>
        <p:grpSpPr>
          <a:xfrm>
            <a:off x="2010960" y="245520"/>
            <a:ext cx="6896160" cy="5451840"/>
            <a:chOff x="2010960" y="245520"/>
            <a:chExt cx="6896160" cy="5451840"/>
          </a:xfrm>
        </p:grpSpPr>
        <p:grpSp>
          <p:nvGrpSpPr>
            <p:cNvPr id="218" name="Group 3"/>
            <p:cNvGrpSpPr/>
            <p:nvPr/>
          </p:nvGrpSpPr>
          <p:grpSpPr>
            <a:xfrm>
              <a:off x="3484080" y="954360"/>
              <a:ext cx="945720" cy="709920"/>
              <a:chOff x="3484080" y="954360"/>
              <a:chExt cx="945720" cy="709920"/>
            </a:xfrm>
          </p:grpSpPr>
          <p:sp>
            <p:nvSpPr>
              <p:cNvPr id="219" name="Oval 4"/>
              <p:cNvSpPr/>
              <p:nvPr/>
            </p:nvSpPr>
            <p:spPr>
              <a:xfrm>
                <a:off x="3484080" y="954360"/>
                <a:ext cx="945720" cy="70992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220" name="Oval 5"/>
              <p:cNvSpPr/>
              <p:nvPr/>
            </p:nvSpPr>
            <p:spPr>
              <a:xfrm>
                <a:off x="3823920" y="126612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</p:grpSp>
        <p:grpSp>
          <p:nvGrpSpPr>
            <p:cNvPr id="221" name="Group 6"/>
            <p:cNvGrpSpPr/>
            <p:nvPr/>
          </p:nvGrpSpPr>
          <p:grpSpPr>
            <a:xfrm>
              <a:off x="2010960" y="245520"/>
              <a:ext cx="6896160" cy="5451840"/>
              <a:chOff x="2010960" y="245520"/>
              <a:chExt cx="6896160" cy="5451840"/>
            </a:xfrm>
          </p:grpSpPr>
          <p:grpSp>
            <p:nvGrpSpPr>
              <p:cNvPr id="222" name="Group 7"/>
              <p:cNvGrpSpPr/>
              <p:nvPr/>
            </p:nvGrpSpPr>
            <p:grpSpPr>
              <a:xfrm>
                <a:off x="2010960" y="245520"/>
                <a:ext cx="6891120" cy="5451840"/>
                <a:chOff x="2010960" y="245520"/>
                <a:chExt cx="6891120" cy="5451840"/>
              </a:xfrm>
            </p:grpSpPr>
            <p:grpSp>
              <p:nvGrpSpPr>
                <p:cNvPr id="223" name="Group 8"/>
                <p:cNvGrpSpPr/>
                <p:nvPr/>
              </p:nvGrpSpPr>
              <p:grpSpPr>
                <a:xfrm>
                  <a:off x="3735720" y="1264320"/>
                  <a:ext cx="3599280" cy="2650680"/>
                  <a:chOff x="3735720" y="1264320"/>
                  <a:chExt cx="3599280" cy="2650680"/>
                </a:xfrm>
              </p:grpSpPr>
              <p:sp>
                <p:nvSpPr>
                  <p:cNvPr id="224" name="Oval 9"/>
                  <p:cNvSpPr/>
                  <p:nvPr/>
                </p:nvSpPr>
                <p:spPr>
                  <a:xfrm>
                    <a:off x="3735720" y="1264320"/>
                    <a:ext cx="3599280" cy="2650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a4"/>
                      </a:gs>
                      <a:gs pos="100000">
                        <a:srgbClr val="00006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25" name="Oval 10"/>
                  <p:cNvSpPr/>
                  <p:nvPr/>
                </p:nvSpPr>
                <p:spPr>
                  <a:xfrm>
                    <a:off x="5109480" y="2235600"/>
                    <a:ext cx="712440" cy="498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0000a4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26" name="Group 11"/>
                <p:cNvGrpSpPr/>
                <p:nvPr/>
              </p:nvGrpSpPr>
              <p:grpSpPr>
                <a:xfrm>
                  <a:off x="2010960" y="245520"/>
                  <a:ext cx="6891120" cy="5451840"/>
                  <a:chOff x="2010960" y="245520"/>
                  <a:chExt cx="6891120" cy="5451840"/>
                </a:xfrm>
              </p:grpSpPr>
              <p:grpSp>
                <p:nvGrpSpPr>
                  <p:cNvPr id="227" name="Group 12"/>
                  <p:cNvGrpSpPr/>
                  <p:nvPr/>
                </p:nvGrpSpPr>
                <p:grpSpPr>
                  <a:xfrm>
                    <a:off x="5760000" y="2321280"/>
                    <a:ext cx="2560680" cy="2739960"/>
                    <a:chOff x="5760000" y="2321280"/>
                    <a:chExt cx="2560680" cy="2739960"/>
                  </a:xfrm>
                </p:grpSpPr>
                <p:sp>
                  <p:nvSpPr>
                    <p:cNvPr id="228" name="Freeform 13"/>
                    <p:cNvSpPr/>
                    <p:nvPr/>
                  </p:nvSpPr>
                  <p:spPr>
                    <a:xfrm rot="2711400">
                      <a:off x="5582520" y="3019320"/>
                      <a:ext cx="2128680" cy="385560"/>
                    </a:xfrm>
                    <a:custGeom>
                      <a:avLst/>
                      <a:gdLst>
                        <a:gd name="textAreaLeft" fmla="*/ 0 w 2128680"/>
                        <a:gd name="textAreaRight" fmla="*/ 2129040 w 212868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9" name="Freeform 14"/>
                    <p:cNvSpPr/>
                    <p:nvPr/>
                  </p:nvSpPr>
                  <p:spPr>
                    <a:xfrm rot="2711400">
                      <a:off x="7134480" y="4141800"/>
                      <a:ext cx="1140120" cy="604080"/>
                    </a:xfrm>
                    <a:custGeom>
                      <a:avLst/>
                      <a:gdLst>
                        <a:gd name="textAreaLeft" fmla="*/ 0 w 1140120"/>
                        <a:gd name="textAreaRight" fmla="*/ 1140480 w 114012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0" name="Group 15"/>
                  <p:cNvGrpSpPr/>
                  <p:nvPr/>
                </p:nvGrpSpPr>
                <p:grpSpPr>
                  <a:xfrm>
                    <a:off x="5787720" y="2144160"/>
                    <a:ext cx="3039840" cy="2530440"/>
                    <a:chOff x="5787720" y="2144160"/>
                    <a:chExt cx="3039840" cy="2530440"/>
                  </a:xfrm>
                </p:grpSpPr>
                <p:sp>
                  <p:nvSpPr>
                    <p:cNvPr id="231" name="Freeform 16"/>
                    <p:cNvSpPr/>
                    <p:nvPr/>
                  </p:nvSpPr>
                  <p:spPr>
                    <a:xfrm rot="2103600">
                      <a:off x="5707080" y="2747520"/>
                      <a:ext cx="2235600" cy="426960"/>
                    </a:xfrm>
                    <a:custGeom>
                      <a:avLst/>
                      <a:gdLst>
                        <a:gd name="textAreaLeft" fmla="*/ 0 w 2235600"/>
                        <a:gd name="textAreaRight" fmla="*/ 2235960 w 2235600"/>
                        <a:gd name="textAreaTop" fmla="*/ 0 h 426960"/>
                        <a:gd name="textAreaBottom" fmla="*/ 427320 h 426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2" name="Freeform 17"/>
                    <p:cNvSpPr/>
                    <p:nvPr/>
                  </p:nvSpPr>
                  <p:spPr>
                    <a:xfrm rot="2103600">
                      <a:off x="7542000" y="3718080"/>
                      <a:ext cx="1200960" cy="672480"/>
                    </a:xfrm>
                    <a:custGeom>
                      <a:avLst/>
                      <a:gdLst>
                        <a:gd name="textAreaLeft" fmla="*/ 0 w 1200960"/>
                        <a:gd name="textAreaRight" fmla="*/ 1201320 w 1200960"/>
                        <a:gd name="textAreaTop" fmla="*/ 0 h 672480"/>
                        <a:gd name="textAreaBottom" fmla="*/ 672840 h 6724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3" name="Group 18"/>
                  <p:cNvGrpSpPr/>
                  <p:nvPr/>
                </p:nvGrpSpPr>
                <p:grpSpPr>
                  <a:xfrm>
                    <a:off x="5774760" y="2061000"/>
                    <a:ext cx="3097800" cy="1994760"/>
                    <a:chOff x="5774760" y="2061000"/>
                    <a:chExt cx="3097800" cy="1994760"/>
                  </a:xfrm>
                </p:grpSpPr>
                <p:sp>
                  <p:nvSpPr>
                    <p:cNvPr id="234" name="Freeform 19"/>
                    <p:cNvSpPr/>
                    <p:nvPr/>
                  </p:nvSpPr>
                  <p:spPr>
                    <a:xfrm rot="1582800">
                      <a:off x="5746320" y="2516760"/>
                      <a:ext cx="2140560" cy="375120"/>
                    </a:xfrm>
                    <a:custGeom>
                      <a:avLst/>
                      <a:gdLst>
                        <a:gd name="textAreaLeft" fmla="*/ 0 w 2140560"/>
                        <a:gd name="textAreaRight" fmla="*/ 2140920 w 214056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5" name="Freeform 20"/>
                    <p:cNvSpPr/>
                    <p:nvPr/>
                  </p:nvSpPr>
                  <p:spPr>
                    <a:xfrm rot="1582800">
                      <a:off x="7652520" y="3243960"/>
                      <a:ext cx="1149120" cy="58716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7160"/>
                        <a:gd name="textAreaBottom" fmla="*/ 587520 h 587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6" name="Group 21"/>
                  <p:cNvGrpSpPr/>
                  <p:nvPr/>
                </p:nvGrpSpPr>
                <p:grpSpPr>
                  <a:xfrm>
                    <a:off x="5767920" y="1967040"/>
                    <a:ext cx="3134160" cy="1608840"/>
                    <a:chOff x="5767920" y="1967040"/>
                    <a:chExt cx="3134160" cy="1608840"/>
                  </a:xfrm>
                </p:grpSpPr>
                <p:sp>
                  <p:nvSpPr>
                    <p:cNvPr id="237" name="Freeform 22"/>
                    <p:cNvSpPr/>
                    <p:nvPr/>
                  </p:nvSpPr>
                  <p:spPr>
                    <a:xfrm rot="1080000">
                      <a:off x="5780880" y="2276280"/>
                      <a:ext cx="2067480" cy="41364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3640"/>
                        <a:gd name="textAreaBottom" fmla="*/ 414000 h 413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8" name="Freeform 23"/>
                    <p:cNvSpPr/>
                    <p:nvPr/>
                  </p:nvSpPr>
                  <p:spPr>
                    <a:xfrm rot="1080000">
                      <a:off x="7718400" y="2771280"/>
                      <a:ext cx="1110600" cy="64872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8720"/>
                        <a:gd name="textAreaBottom" fmla="*/ 649080 h 648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9" name="Group 24"/>
                  <p:cNvGrpSpPr/>
                  <p:nvPr/>
                </p:nvGrpSpPr>
                <p:grpSpPr>
                  <a:xfrm>
                    <a:off x="5805720" y="1874880"/>
                    <a:ext cx="2939040" cy="1004400"/>
                    <a:chOff x="5805720" y="1874880"/>
                    <a:chExt cx="2939040" cy="1004400"/>
                  </a:xfrm>
                </p:grpSpPr>
                <p:sp>
                  <p:nvSpPr>
                    <p:cNvPr id="240" name="Freeform 25"/>
                    <p:cNvSpPr/>
                    <p:nvPr/>
                  </p:nvSpPr>
                  <p:spPr>
                    <a:xfrm rot="463200">
                      <a:off x="5823000" y="2000880"/>
                      <a:ext cx="1903680" cy="385920"/>
                    </a:xfrm>
                    <a:custGeom>
                      <a:avLst/>
                      <a:gdLst>
                        <a:gd name="textAreaLeft" fmla="*/ 0 w 1903680"/>
                        <a:gd name="textAreaRight" fmla="*/ 1904040 w 1903680"/>
                        <a:gd name="textAreaTop" fmla="*/ 0 h 385920"/>
                        <a:gd name="textAreaBottom" fmla="*/ 386280 h 385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1" name="Freeform 26"/>
                    <p:cNvSpPr/>
                    <p:nvPr/>
                  </p:nvSpPr>
                  <p:spPr>
                    <a:xfrm rot="463200">
                      <a:off x="7685640" y="2209320"/>
                      <a:ext cx="1023120" cy="603720"/>
                    </a:xfrm>
                    <a:custGeom>
                      <a:avLst/>
                      <a:gdLst>
                        <a:gd name="textAreaLeft" fmla="*/ 0 w 1023120"/>
                        <a:gd name="textAreaRight" fmla="*/ 1023480 w 1023120"/>
                        <a:gd name="textAreaTop" fmla="*/ 0 h 603720"/>
                        <a:gd name="textAreaBottom" fmla="*/ 604080 h 603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2" name="Group 27"/>
                  <p:cNvGrpSpPr/>
                  <p:nvPr/>
                </p:nvGrpSpPr>
                <p:grpSpPr>
                  <a:xfrm>
                    <a:off x="5851440" y="1814400"/>
                    <a:ext cx="2658600" cy="442800"/>
                    <a:chOff x="5851440" y="1814400"/>
                    <a:chExt cx="2658600" cy="442800"/>
                  </a:xfrm>
                </p:grpSpPr>
                <p:sp>
                  <p:nvSpPr>
                    <p:cNvPr id="243" name="Freeform 28"/>
                    <p:cNvSpPr/>
                    <p:nvPr/>
                  </p:nvSpPr>
                  <p:spPr>
                    <a:xfrm rot="21515400">
                      <a:off x="5854320" y="1848960"/>
                      <a:ext cx="1730880" cy="27000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70000"/>
                        <a:gd name="textAreaBottom" fmla="*/ 270360 h 2700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4" name="Freeform 29"/>
                    <p:cNvSpPr/>
                    <p:nvPr/>
                  </p:nvSpPr>
                  <p:spPr>
                    <a:xfrm rot="21515400">
                      <a:off x="7575120" y="1825920"/>
                      <a:ext cx="929520" cy="41976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19760"/>
                        <a:gd name="textAreaBottom" fmla="*/ 420120 h 419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5" name="Group 30"/>
                  <p:cNvGrpSpPr/>
                  <p:nvPr/>
                </p:nvGrpSpPr>
                <p:grpSpPr>
                  <a:xfrm>
                    <a:off x="5788440" y="1302480"/>
                    <a:ext cx="2364120" cy="784080"/>
                    <a:chOff x="5788440" y="1302480"/>
                    <a:chExt cx="2364120" cy="784080"/>
                  </a:xfrm>
                </p:grpSpPr>
                <p:sp>
                  <p:nvSpPr>
                    <p:cNvPr id="246" name="Freeform 31"/>
                    <p:cNvSpPr/>
                    <p:nvPr/>
                  </p:nvSpPr>
                  <p:spPr>
                    <a:xfrm rot="20797200">
                      <a:off x="5798160" y="1648800"/>
                      <a:ext cx="1520280" cy="265320"/>
                    </a:xfrm>
                    <a:custGeom>
                      <a:avLst/>
                      <a:gdLst>
                        <a:gd name="textAreaLeft" fmla="*/ 0 w 1520280"/>
                        <a:gd name="textAreaRight" fmla="*/ 1520640 w 152028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7" name="Freeform 32"/>
                    <p:cNvSpPr/>
                    <p:nvPr/>
                  </p:nvSpPr>
                  <p:spPr>
                    <a:xfrm rot="20797200">
                      <a:off x="7299000" y="1391040"/>
                      <a:ext cx="816480" cy="41436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4360"/>
                        <a:gd name="textAreaBottom" fmla="*/ 414720 h 414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8" name="Group 33"/>
                  <p:cNvGrpSpPr/>
                  <p:nvPr/>
                </p:nvGrpSpPr>
                <p:grpSpPr>
                  <a:xfrm>
                    <a:off x="2646000" y="2471040"/>
                    <a:ext cx="2557440" cy="2742480"/>
                    <a:chOff x="2646000" y="2471040"/>
                    <a:chExt cx="2557440" cy="2742480"/>
                  </a:xfrm>
                </p:grpSpPr>
                <p:sp>
                  <p:nvSpPr>
                    <p:cNvPr id="249" name="Freeform 34"/>
                    <p:cNvSpPr/>
                    <p:nvPr/>
                  </p:nvSpPr>
                  <p:spPr>
                    <a:xfrm flipH="1" rot="18888600">
                      <a:off x="3252600" y="3168720"/>
                      <a:ext cx="2127600" cy="385560"/>
                    </a:xfrm>
                    <a:custGeom>
                      <a:avLst/>
                      <a:gdLst>
                        <a:gd name="textAreaLeft" fmla="*/ 360 w 2127600"/>
                        <a:gd name="textAreaRight" fmla="*/ 2128320 w 212760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0" name="Freeform 35"/>
                    <p:cNvSpPr/>
                    <p:nvPr/>
                  </p:nvSpPr>
                  <p:spPr>
                    <a:xfrm flipH="1" rot="18888600">
                      <a:off x="2691000" y="4293000"/>
                      <a:ext cx="1142640" cy="604080"/>
                    </a:xfrm>
                    <a:custGeom>
                      <a:avLst/>
                      <a:gdLst>
                        <a:gd name="textAreaLeft" fmla="*/ 360 w 1142640"/>
                        <a:gd name="textAreaRight" fmla="*/ 1143360 w 114264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1" name="Group 36"/>
                  <p:cNvGrpSpPr/>
                  <p:nvPr/>
                </p:nvGrpSpPr>
                <p:grpSpPr>
                  <a:xfrm>
                    <a:off x="2084040" y="2364840"/>
                    <a:ext cx="3039840" cy="2532240"/>
                    <a:chOff x="2084040" y="2364840"/>
                    <a:chExt cx="3039840" cy="2532240"/>
                  </a:xfrm>
                </p:grpSpPr>
                <p:sp>
                  <p:nvSpPr>
                    <p:cNvPr id="252" name="Freeform 37"/>
                    <p:cNvSpPr/>
                    <p:nvPr/>
                  </p:nvSpPr>
                  <p:spPr>
                    <a:xfrm flipH="1" rot="19496400">
                      <a:off x="2968560" y="2967480"/>
                      <a:ext cx="2234160" cy="429120"/>
                    </a:xfrm>
                    <a:custGeom>
                      <a:avLst/>
                      <a:gdLst>
                        <a:gd name="textAreaLeft" fmla="*/ 360 w 2234160"/>
                        <a:gd name="textAreaRight" fmla="*/ 2234880 w 2234160"/>
                        <a:gd name="textAreaTop" fmla="*/ 0 h 429120"/>
                        <a:gd name="textAreaBottom" fmla="*/ 429480 h 429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38"/>
                    <p:cNvSpPr/>
                    <p:nvPr/>
                  </p:nvSpPr>
                  <p:spPr>
                    <a:xfrm flipH="1" rot="19496400">
                      <a:off x="2167920" y="3939840"/>
                      <a:ext cx="1199880" cy="673560"/>
                    </a:xfrm>
                    <a:custGeom>
                      <a:avLst/>
                      <a:gdLst>
                        <a:gd name="textAreaLeft" fmla="*/ -360 w 1199880"/>
                        <a:gd name="textAreaRight" fmla="*/ 1199880 w 1199880"/>
                        <a:gd name="textAreaTop" fmla="*/ 0 h 673560"/>
                        <a:gd name="textAreaBottom" fmla="*/ 673920 h 673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39"/>
                  <p:cNvGrpSpPr/>
                  <p:nvPr/>
                </p:nvGrpSpPr>
                <p:grpSpPr>
                  <a:xfrm>
                    <a:off x="2040480" y="2279160"/>
                    <a:ext cx="3096720" cy="1992600"/>
                    <a:chOff x="2040480" y="2279160"/>
                    <a:chExt cx="3096720" cy="1992600"/>
                  </a:xfrm>
                </p:grpSpPr>
                <p:sp>
                  <p:nvSpPr>
                    <p:cNvPr id="255" name="Freeform 40"/>
                    <p:cNvSpPr/>
                    <p:nvPr/>
                  </p:nvSpPr>
                  <p:spPr>
                    <a:xfrm flipH="1" rot="20017200">
                      <a:off x="3023640" y="2734920"/>
                      <a:ext cx="2140920" cy="375120"/>
                    </a:xfrm>
                    <a:custGeom>
                      <a:avLst/>
                      <a:gdLst>
                        <a:gd name="textAreaLeft" fmla="*/ -360 w 2140920"/>
                        <a:gd name="textAreaRight" fmla="*/ 2140920 w 214092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41"/>
                    <p:cNvSpPr/>
                    <p:nvPr/>
                  </p:nvSpPr>
                  <p:spPr>
                    <a:xfrm flipH="1" rot="20017200">
                      <a:off x="2110680" y="3459240"/>
                      <a:ext cx="1149120" cy="587520"/>
                    </a:xfrm>
                    <a:custGeom>
                      <a:avLst/>
                      <a:gdLst>
                        <a:gd name="textAreaLeft" fmla="*/ 360 w 1149120"/>
                        <a:gd name="textAreaRight" fmla="*/ 1149840 w 1149120"/>
                        <a:gd name="textAreaTop" fmla="*/ 0 h 587520"/>
                        <a:gd name="textAreaBottom" fmla="*/ 587880 h 587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42"/>
                  <p:cNvGrpSpPr/>
                  <p:nvPr/>
                </p:nvGrpSpPr>
                <p:grpSpPr>
                  <a:xfrm>
                    <a:off x="2010960" y="2185560"/>
                    <a:ext cx="3134160" cy="1608840"/>
                    <a:chOff x="2010960" y="2185560"/>
                    <a:chExt cx="3134160" cy="1608840"/>
                  </a:xfrm>
                </p:grpSpPr>
                <p:sp>
                  <p:nvSpPr>
                    <p:cNvPr id="258" name="Freeform 43"/>
                    <p:cNvSpPr/>
                    <p:nvPr/>
                  </p:nvSpPr>
                  <p:spPr>
                    <a:xfrm flipH="1" rot="20520000">
                      <a:off x="3063240" y="2494800"/>
                      <a:ext cx="2067840" cy="414360"/>
                    </a:xfrm>
                    <a:custGeom>
                      <a:avLst/>
                      <a:gdLst>
                        <a:gd name="textAreaLeft" fmla="*/ 360 w 2067840"/>
                        <a:gd name="textAreaRight" fmla="*/ 2068560 w 2067840"/>
                        <a:gd name="textAreaTop" fmla="*/ 0 h 414360"/>
                        <a:gd name="textAreaBottom" fmla="*/ 414720 h 4143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44"/>
                    <p:cNvSpPr/>
                    <p:nvPr/>
                  </p:nvSpPr>
                  <p:spPr>
                    <a:xfrm flipH="1" rot="20520000">
                      <a:off x="2083680" y="2989440"/>
                      <a:ext cx="1110600" cy="649080"/>
                    </a:xfrm>
                    <a:custGeom>
                      <a:avLst/>
                      <a:gdLst>
                        <a:gd name="textAreaLeft" fmla="*/ -360 w 1110600"/>
                        <a:gd name="textAreaRight" fmla="*/ 1110600 w 1110600"/>
                        <a:gd name="textAreaTop" fmla="*/ 0 h 649080"/>
                        <a:gd name="textAreaBottom" fmla="*/ 649440 h 649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45"/>
                  <p:cNvGrpSpPr/>
                  <p:nvPr/>
                </p:nvGrpSpPr>
                <p:grpSpPr>
                  <a:xfrm>
                    <a:off x="2167560" y="2094840"/>
                    <a:ext cx="2937240" cy="1002960"/>
                    <a:chOff x="2167560" y="2094840"/>
                    <a:chExt cx="2937240" cy="1002960"/>
                  </a:xfrm>
                </p:grpSpPr>
                <p:sp>
                  <p:nvSpPr>
                    <p:cNvPr id="261" name="Freeform 46"/>
                    <p:cNvSpPr/>
                    <p:nvPr/>
                  </p:nvSpPr>
                  <p:spPr>
                    <a:xfrm flipH="1" rot="21136800">
                      <a:off x="3183480" y="2220840"/>
                      <a:ext cx="1903680" cy="386280"/>
                    </a:xfrm>
                    <a:custGeom>
                      <a:avLst/>
                      <a:gdLst>
                        <a:gd name="textAreaLeft" fmla="*/ 360 w 1903680"/>
                        <a:gd name="textAreaRight" fmla="*/ 1904400 w 1903680"/>
                        <a:gd name="textAreaTop" fmla="*/ 0 h 386280"/>
                        <a:gd name="textAreaBottom" fmla="*/ 386640 h 386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47"/>
                    <p:cNvSpPr/>
                    <p:nvPr/>
                  </p:nvSpPr>
                  <p:spPr>
                    <a:xfrm flipH="1" rot="21136800">
                      <a:off x="2202840" y="2429280"/>
                      <a:ext cx="1023120" cy="602280"/>
                    </a:xfrm>
                    <a:custGeom>
                      <a:avLst/>
                      <a:gdLst>
                        <a:gd name="textAreaLeft" fmla="*/ 360 w 1023120"/>
                        <a:gd name="textAreaRight" fmla="*/ 1023840 w 1023120"/>
                        <a:gd name="textAreaTop" fmla="*/ 0 h 602280"/>
                        <a:gd name="textAreaBottom" fmla="*/ 602640 h 6022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48"/>
                  <p:cNvGrpSpPr/>
                  <p:nvPr/>
                </p:nvGrpSpPr>
                <p:grpSpPr>
                  <a:xfrm>
                    <a:off x="2403720" y="2027880"/>
                    <a:ext cx="2658600" cy="448920"/>
                    <a:chOff x="2403720" y="2027880"/>
                    <a:chExt cx="2658600" cy="448920"/>
                  </a:xfrm>
                </p:grpSpPr>
                <p:sp>
                  <p:nvSpPr>
                    <p:cNvPr id="264" name="Freeform 49"/>
                    <p:cNvSpPr/>
                    <p:nvPr/>
                  </p:nvSpPr>
                  <p:spPr>
                    <a:xfrm flipH="1" rot="84600">
                      <a:off x="3327840" y="2064600"/>
                      <a:ext cx="1730880" cy="270000"/>
                    </a:xfrm>
                    <a:custGeom>
                      <a:avLst/>
                      <a:gdLst>
                        <a:gd name="textAreaLeft" fmla="*/ 360 w 1730880"/>
                        <a:gd name="textAreaRight" fmla="*/ 1731600 w 1730880"/>
                        <a:gd name="textAreaTop" fmla="*/ 0 h 270000"/>
                        <a:gd name="textAreaBottom" fmla="*/ 270360 h 2700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50"/>
                    <p:cNvSpPr/>
                    <p:nvPr/>
                  </p:nvSpPr>
                  <p:spPr>
                    <a:xfrm flipH="1" rot="84600">
                      <a:off x="2408760" y="2039040"/>
                      <a:ext cx="929520" cy="425880"/>
                    </a:xfrm>
                    <a:custGeom>
                      <a:avLst/>
                      <a:gdLst>
                        <a:gd name="textAreaLeft" fmla="*/ 360 w 929520"/>
                        <a:gd name="textAreaRight" fmla="*/ 930240 w 929520"/>
                        <a:gd name="textAreaTop" fmla="*/ 0 h 425880"/>
                        <a:gd name="textAreaBottom" fmla="*/ 426240 h 425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51"/>
                  <p:cNvGrpSpPr/>
                  <p:nvPr/>
                </p:nvGrpSpPr>
                <p:grpSpPr>
                  <a:xfrm>
                    <a:off x="2760480" y="1518480"/>
                    <a:ext cx="2364120" cy="788760"/>
                    <a:chOff x="2760480" y="1518480"/>
                    <a:chExt cx="2364120" cy="788760"/>
                  </a:xfrm>
                </p:grpSpPr>
                <p:sp>
                  <p:nvSpPr>
                    <p:cNvPr id="267" name="Freeform 52"/>
                    <p:cNvSpPr/>
                    <p:nvPr/>
                  </p:nvSpPr>
                  <p:spPr>
                    <a:xfrm flipH="1" rot="802800">
                      <a:off x="3594240" y="186984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53"/>
                    <p:cNvSpPr/>
                    <p:nvPr/>
                  </p:nvSpPr>
                  <p:spPr>
                    <a:xfrm flipH="1" rot="802800">
                      <a:off x="2797560" y="1607040"/>
                      <a:ext cx="816120" cy="41940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9400"/>
                        <a:gd name="textAreaBottom" fmla="*/ 419760 h 4194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54"/>
                  <p:cNvGrpSpPr/>
                  <p:nvPr/>
                </p:nvGrpSpPr>
                <p:grpSpPr>
                  <a:xfrm>
                    <a:off x="2887560" y="1235520"/>
                    <a:ext cx="2323440" cy="1081800"/>
                    <a:chOff x="2887560" y="1235520"/>
                    <a:chExt cx="2323440" cy="1081800"/>
                  </a:xfrm>
                </p:grpSpPr>
                <p:sp>
                  <p:nvSpPr>
                    <p:cNvPr id="270" name="Freeform 55"/>
                    <p:cNvSpPr/>
                    <p:nvPr/>
                  </p:nvSpPr>
                  <p:spPr>
                    <a:xfrm flipH="1" rot="1278000">
                      <a:off x="3694320" y="178488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56"/>
                    <p:cNvSpPr/>
                    <p:nvPr/>
                  </p:nvSpPr>
                  <p:spPr>
                    <a:xfrm flipH="1" rot="1278000">
                      <a:off x="2934720" y="1369440"/>
                      <a:ext cx="816120" cy="41472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4720"/>
                        <a:gd name="textAreaBottom" fmla="*/ 415080 h 414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57"/>
                  <p:cNvGrpSpPr/>
                  <p:nvPr/>
                </p:nvGrpSpPr>
                <p:grpSpPr>
                  <a:xfrm>
                    <a:off x="3161160" y="826560"/>
                    <a:ext cx="2170080" cy="1507320"/>
                    <a:chOff x="3161160" y="826560"/>
                    <a:chExt cx="2170080" cy="1507320"/>
                  </a:xfrm>
                </p:grpSpPr>
                <p:sp>
                  <p:nvSpPr>
                    <p:cNvPr id="273" name="Freeform 58"/>
                    <p:cNvSpPr/>
                    <p:nvPr/>
                  </p:nvSpPr>
                  <p:spPr>
                    <a:xfrm flipH="1" rot="2028600">
                      <a:off x="3864960" y="166824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59"/>
                    <p:cNvSpPr/>
                    <p:nvPr/>
                  </p:nvSpPr>
                  <p:spPr>
                    <a:xfrm flipH="1" rot="2028600">
                      <a:off x="3207600" y="1018080"/>
                      <a:ext cx="816120" cy="41544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5440"/>
                        <a:gd name="textAreaBottom" fmla="*/ 415800 h 4154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60"/>
                  <p:cNvGrpSpPr/>
                  <p:nvPr/>
                </p:nvGrpSpPr>
                <p:grpSpPr>
                  <a:xfrm>
                    <a:off x="3436920" y="434520"/>
                    <a:ext cx="1987920" cy="1829160"/>
                    <a:chOff x="3436920" y="434520"/>
                    <a:chExt cx="1987920" cy="1829160"/>
                  </a:xfrm>
                </p:grpSpPr>
                <p:sp>
                  <p:nvSpPr>
                    <p:cNvPr id="276" name="Freeform 61"/>
                    <p:cNvSpPr/>
                    <p:nvPr/>
                  </p:nvSpPr>
                  <p:spPr>
                    <a:xfrm flipH="1" rot="2664600">
                      <a:off x="4009680" y="149688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62"/>
                    <p:cNvSpPr/>
                    <p:nvPr/>
                  </p:nvSpPr>
                  <p:spPr>
                    <a:xfrm flipH="1" rot="2664600">
                      <a:off x="3464640" y="664560"/>
                      <a:ext cx="828360" cy="41832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8320"/>
                        <a:gd name="textAreaBottom" fmla="*/ 418680 h 418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63"/>
                  <p:cNvGrpSpPr/>
                  <p:nvPr/>
                </p:nvGrpSpPr>
                <p:grpSpPr>
                  <a:xfrm>
                    <a:off x="4026960" y="325800"/>
                    <a:ext cx="1463400" cy="1892880"/>
                    <a:chOff x="4026960" y="325800"/>
                    <a:chExt cx="1463400" cy="1892880"/>
                  </a:xfrm>
                </p:grpSpPr>
                <p:sp>
                  <p:nvSpPr>
                    <p:cNvPr id="279" name="Freeform 64"/>
                    <p:cNvSpPr/>
                    <p:nvPr/>
                  </p:nvSpPr>
                  <p:spPr>
                    <a:xfrm flipH="1" rot="3474000">
                      <a:off x="4336560" y="1439640"/>
                      <a:ext cx="1359720" cy="265320"/>
                    </a:xfrm>
                    <a:custGeom>
                      <a:avLst/>
                      <a:gdLst>
                        <a:gd name="textAreaLeft" fmla="*/ -360 w 1359720"/>
                        <a:gd name="textAreaRight" fmla="*/ 1359720 w 135972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65"/>
                    <p:cNvSpPr/>
                    <p:nvPr/>
                  </p:nvSpPr>
                  <p:spPr>
                    <a:xfrm flipH="1" rot="3474000">
                      <a:off x="4032360" y="536400"/>
                      <a:ext cx="729000" cy="416880"/>
                    </a:xfrm>
                    <a:custGeom>
                      <a:avLst/>
                      <a:gdLst>
                        <a:gd name="textAreaLeft" fmla="*/ -360 w 729000"/>
                        <a:gd name="textAreaRight" fmla="*/ 729000 w 72900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66"/>
                  <p:cNvGrpSpPr/>
                  <p:nvPr/>
                </p:nvGrpSpPr>
                <p:grpSpPr>
                  <a:xfrm>
                    <a:off x="4447800" y="245520"/>
                    <a:ext cx="1124280" cy="1947960"/>
                    <a:chOff x="4447800" y="245520"/>
                    <a:chExt cx="1124280" cy="1947960"/>
                  </a:xfrm>
                </p:grpSpPr>
                <p:sp>
                  <p:nvSpPr>
                    <p:cNvPr id="282" name="Freeform 67"/>
                    <p:cNvSpPr/>
                    <p:nvPr/>
                  </p:nvSpPr>
                  <p:spPr>
                    <a:xfrm flipH="1" rot="4126800">
                      <a:off x="4557240" y="1402560"/>
                      <a:ext cx="1308960" cy="264960"/>
                    </a:xfrm>
                    <a:custGeom>
                      <a:avLst/>
                      <a:gdLst>
                        <a:gd name="textAreaLeft" fmla="*/ 360 w 1308960"/>
                        <a:gd name="textAreaRight" fmla="*/ 1309680 w 130896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68"/>
                    <p:cNvSpPr/>
                    <p:nvPr/>
                  </p:nvSpPr>
                  <p:spPr>
                    <a:xfrm flipH="1" rot="4126800">
                      <a:off x="4416480" y="440640"/>
                      <a:ext cx="703440" cy="415440"/>
                    </a:xfrm>
                    <a:custGeom>
                      <a:avLst/>
                      <a:gdLst>
                        <a:gd name="textAreaLeft" fmla="*/ 360 w 703440"/>
                        <a:gd name="textAreaRight" fmla="*/ 704160 w 703440"/>
                        <a:gd name="textAreaTop" fmla="*/ 0 h 415440"/>
                        <a:gd name="textAreaBottom" fmla="*/ 415800 h 4154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4" name="Group 69"/>
                  <p:cNvGrpSpPr/>
                  <p:nvPr/>
                </p:nvGrpSpPr>
                <p:grpSpPr>
                  <a:xfrm>
                    <a:off x="5661720" y="947160"/>
                    <a:ext cx="2318760" cy="1113840"/>
                    <a:chOff x="5661720" y="947160"/>
                    <a:chExt cx="2318760" cy="1113840"/>
                  </a:xfrm>
                </p:grpSpPr>
                <p:sp>
                  <p:nvSpPr>
                    <p:cNvPr id="285" name="Freeform 70"/>
                    <p:cNvSpPr/>
                    <p:nvPr/>
                  </p:nvSpPr>
                  <p:spPr>
                    <a:xfrm rot="20274000">
                      <a:off x="5655600" y="1519200"/>
                      <a:ext cx="1519920" cy="26532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6" name="Freeform 71"/>
                    <p:cNvSpPr/>
                    <p:nvPr/>
                  </p:nvSpPr>
                  <p:spPr>
                    <a:xfrm rot="20274000">
                      <a:off x="7113960" y="1085400"/>
                      <a:ext cx="817560" cy="419400"/>
                    </a:xfrm>
                    <a:custGeom>
                      <a:avLst/>
                      <a:gdLst>
                        <a:gd name="textAreaLeft" fmla="*/ 0 w 817560"/>
                        <a:gd name="textAreaRight" fmla="*/ 817920 w 817560"/>
                        <a:gd name="textAreaTop" fmla="*/ 0 h 419400"/>
                        <a:gd name="textAreaBottom" fmla="*/ 419760 h 4194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7" name="Group 72"/>
                  <p:cNvGrpSpPr/>
                  <p:nvPr/>
                </p:nvGrpSpPr>
                <p:grpSpPr>
                  <a:xfrm>
                    <a:off x="5529600" y="619920"/>
                    <a:ext cx="2202120" cy="1452600"/>
                    <a:chOff x="5529600" y="619920"/>
                    <a:chExt cx="2202120" cy="1452600"/>
                  </a:xfrm>
                </p:grpSpPr>
                <p:sp>
                  <p:nvSpPr>
                    <p:cNvPr id="288" name="Freeform 73"/>
                    <p:cNvSpPr/>
                    <p:nvPr/>
                  </p:nvSpPr>
                  <p:spPr>
                    <a:xfrm rot="19678800">
                      <a:off x="5484240" y="1424160"/>
                      <a:ext cx="1519920" cy="26532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9" name="Freeform 74"/>
                    <p:cNvSpPr/>
                    <p:nvPr/>
                  </p:nvSpPr>
                  <p:spPr>
                    <a:xfrm rot="19678800">
                      <a:off x="6865200" y="804600"/>
                      <a:ext cx="817560" cy="418320"/>
                    </a:xfrm>
                    <a:custGeom>
                      <a:avLst/>
                      <a:gdLst>
                        <a:gd name="textAreaLeft" fmla="*/ 0 w 817560"/>
                        <a:gd name="textAreaRight" fmla="*/ 817920 w 817560"/>
                        <a:gd name="textAreaTop" fmla="*/ 0 h 418320"/>
                        <a:gd name="textAreaBottom" fmla="*/ 418680 h 418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90" name="Freeform 75"/>
                  <p:cNvSpPr/>
                  <p:nvPr/>
                </p:nvSpPr>
                <p:spPr>
                  <a:xfrm flipH="1" rot="4578600">
                    <a:off x="4766040" y="1461600"/>
                    <a:ext cx="1266120" cy="177480"/>
                  </a:xfrm>
                  <a:custGeom>
                    <a:avLst/>
                    <a:gdLst>
                      <a:gd name="textAreaLeft" fmla="*/ 0 w 1266120"/>
                      <a:gd name="textAreaRight" fmla="*/ 1266120 w 1266120"/>
                      <a:gd name="textAreaTop" fmla="*/ 0 h 177480"/>
                      <a:gd name="textAreaBottom" fmla="*/ 177840 h 177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Freeform 76"/>
                  <p:cNvSpPr/>
                  <p:nvPr/>
                </p:nvSpPr>
                <p:spPr>
                  <a:xfrm flipH="1" rot="4578600">
                    <a:off x="4795920" y="533520"/>
                    <a:ext cx="680040" cy="282240"/>
                  </a:xfrm>
                  <a:custGeom>
                    <a:avLst/>
                    <a:gdLst>
                      <a:gd name="textAreaLeft" fmla="*/ -360 w 680040"/>
                      <a:gd name="textAreaRight" fmla="*/ 680040 w 680040"/>
                      <a:gd name="textAreaTop" fmla="*/ 0 h 282240"/>
                      <a:gd name="textAreaBottom" fmla="*/ 282600 h 282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92" name="Group 77"/>
                  <p:cNvGrpSpPr/>
                  <p:nvPr/>
                </p:nvGrpSpPr>
                <p:grpSpPr>
                  <a:xfrm>
                    <a:off x="5358240" y="267840"/>
                    <a:ext cx="1191600" cy="1898280"/>
                    <a:chOff x="5358240" y="267840"/>
                    <a:chExt cx="1191600" cy="1898280"/>
                  </a:xfrm>
                </p:grpSpPr>
                <p:sp>
                  <p:nvSpPr>
                    <p:cNvPr id="293" name="Freeform 78"/>
                    <p:cNvSpPr/>
                    <p:nvPr/>
                  </p:nvSpPr>
                  <p:spPr>
                    <a:xfrm rot="17742000">
                      <a:off x="5089320" y="1413720"/>
                      <a:ext cx="1309320" cy="226440"/>
                    </a:xfrm>
                    <a:custGeom>
                      <a:avLst/>
                      <a:gdLst>
                        <a:gd name="textAreaLeft" fmla="*/ 0 w 1309320"/>
                        <a:gd name="textAreaRight" fmla="*/ 1309680 w 1309320"/>
                        <a:gd name="textAreaTop" fmla="*/ 0 h 226440"/>
                        <a:gd name="textAreaBottom" fmla="*/ 226800 h 2264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94" name="Freeform 79"/>
                    <p:cNvSpPr/>
                    <p:nvPr/>
                  </p:nvSpPr>
                  <p:spPr>
                    <a:xfrm rot="17742000">
                      <a:off x="5886000" y="483840"/>
                      <a:ext cx="703080" cy="354960"/>
                    </a:xfrm>
                    <a:custGeom>
                      <a:avLst/>
                      <a:gdLst>
                        <a:gd name="textAreaLeft" fmla="*/ 0 w 703080"/>
                        <a:gd name="textAreaRight" fmla="*/ 703080 w 703080"/>
                        <a:gd name="textAreaTop" fmla="*/ 0 h 354960"/>
                        <a:gd name="textAreaBottom" fmla="*/ 355320 h 354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95" name="Group 80"/>
                  <p:cNvGrpSpPr/>
                  <p:nvPr/>
                </p:nvGrpSpPr>
                <p:grpSpPr>
                  <a:xfrm>
                    <a:off x="5350680" y="382680"/>
                    <a:ext cx="1889640" cy="1795680"/>
                    <a:chOff x="5350680" y="382680"/>
                    <a:chExt cx="1889640" cy="1795680"/>
                  </a:xfrm>
                </p:grpSpPr>
                <p:sp>
                  <p:nvSpPr>
                    <p:cNvPr id="296" name="Freeform 81"/>
                    <p:cNvSpPr/>
                    <p:nvPr/>
                  </p:nvSpPr>
                  <p:spPr>
                    <a:xfrm rot="18822600">
                      <a:off x="5250600" y="1381320"/>
                      <a:ext cx="1426320" cy="333000"/>
                    </a:xfrm>
                    <a:custGeom>
                      <a:avLst/>
                      <a:gdLst>
                        <a:gd name="textAreaLeft" fmla="*/ 0 w 1426320"/>
                        <a:gd name="textAreaRight" fmla="*/ 1426680 w 1426320"/>
                        <a:gd name="textAreaTop" fmla="*/ 0 h 333000"/>
                        <a:gd name="textAreaBottom" fmla="*/ 333360 h 3330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97" name="Freeform 82"/>
                    <p:cNvSpPr/>
                    <p:nvPr/>
                  </p:nvSpPr>
                  <p:spPr>
                    <a:xfrm rot="18822600">
                      <a:off x="6402960" y="579600"/>
                      <a:ext cx="767520" cy="520200"/>
                    </a:xfrm>
                    <a:custGeom>
                      <a:avLst/>
                      <a:gdLst>
                        <a:gd name="textAreaLeft" fmla="*/ 0 w 767520"/>
                        <a:gd name="textAreaRight" fmla="*/ 767880 w 767520"/>
                        <a:gd name="textAreaTop" fmla="*/ 0 h 520200"/>
                        <a:gd name="textAreaBottom" fmla="*/ 520560 h 5202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98" name="Group 83"/>
                  <p:cNvGrpSpPr/>
                  <p:nvPr/>
                </p:nvGrpSpPr>
                <p:grpSpPr>
                  <a:xfrm>
                    <a:off x="5459040" y="290160"/>
                    <a:ext cx="425520" cy="1794960"/>
                    <a:chOff x="5459040" y="290160"/>
                    <a:chExt cx="425520" cy="1794960"/>
                  </a:xfrm>
                </p:grpSpPr>
                <p:sp>
                  <p:nvSpPr>
                    <p:cNvPr id="299" name="Freeform 84"/>
                    <p:cNvSpPr/>
                    <p:nvPr/>
                  </p:nvSpPr>
                  <p:spPr>
                    <a:xfrm rot="16696200">
                      <a:off x="5007240" y="1442160"/>
                      <a:ext cx="1177200" cy="105840"/>
                    </a:xfrm>
                    <a:custGeom>
                      <a:avLst/>
                      <a:gdLst>
                        <a:gd name="textAreaLeft" fmla="*/ 0 w 1177200"/>
                        <a:gd name="textAreaRight" fmla="*/ 1177560 w 1177200"/>
                        <a:gd name="textAreaTop" fmla="*/ 0 h 105840"/>
                        <a:gd name="textAreaBottom" fmla="*/ 106200 h 105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00" name="Freeform 85"/>
                    <p:cNvSpPr/>
                    <p:nvPr/>
                  </p:nvSpPr>
                  <p:spPr>
                    <a:xfrm rot="16696200">
                      <a:off x="5441760" y="530640"/>
                      <a:ext cx="630360" cy="166320"/>
                    </a:xfrm>
                    <a:custGeom>
                      <a:avLst/>
                      <a:gdLst>
                        <a:gd name="textAreaLeft" fmla="*/ 0 w 630360"/>
                        <a:gd name="textAreaRight" fmla="*/ 630720 w 630360"/>
                        <a:gd name="textAreaTop" fmla="*/ 0 h 166320"/>
                        <a:gd name="textAreaBottom" fmla="*/ 166320 h 166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01" name="Group 86"/>
                  <p:cNvGrpSpPr/>
                  <p:nvPr/>
                </p:nvGrpSpPr>
                <p:grpSpPr>
                  <a:xfrm>
                    <a:off x="3063240" y="2526840"/>
                    <a:ext cx="2194200" cy="3005640"/>
                    <a:chOff x="3063240" y="2526840"/>
                    <a:chExt cx="2194200" cy="3005640"/>
                  </a:xfrm>
                </p:grpSpPr>
                <p:sp>
                  <p:nvSpPr>
                    <p:cNvPr id="302" name="Freeform 87"/>
                    <p:cNvSpPr/>
                    <p:nvPr/>
                  </p:nvSpPr>
                  <p:spPr>
                    <a:xfrm flipH="1" rot="18336000">
                      <a:off x="3416760" y="3312720"/>
                      <a:ext cx="2130120" cy="383040"/>
                    </a:xfrm>
                    <a:custGeom>
                      <a:avLst/>
                      <a:gdLst>
                        <a:gd name="textAreaLeft" fmla="*/ -360 w 2130120"/>
                        <a:gd name="textAreaRight" fmla="*/ 2130120 w 2130120"/>
                        <a:gd name="textAreaTop" fmla="*/ 0 h 383040"/>
                        <a:gd name="textAreaBottom" fmla="*/ 383400 h 383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03" name="Freeform 88"/>
                    <p:cNvSpPr/>
                    <p:nvPr/>
                  </p:nvSpPr>
                  <p:spPr>
                    <a:xfrm flipH="1" rot="18336000">
                      <a:off x="3070440" y="4590360"/>
                      <a:ext cx="1140120" cy="604440"/>
                    </a:xfrm>
                    <a:custGeom>
                      <a:avLst/>
                      <a:gdLst>
                        <a:gd name="textAreaLeft" fmla="*/ -360 w 1140120"/>
                        <a:gd name="textAreaRight" fmla="*/ 1140120 w 1140120"/>
                        <a:gd name="textAreaTop" fmla="*/ 0 h 604440"/>
                        <a:gd name="textAreaBottom" fmla="*/ 604800 h 6044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04" name="Group 89"/>
                  <p:cNvGrpSpPr/>
                  <p:nvPr/>
                </p:nvGrpSpPr>
                <p:grpSpPr>
                  <a:xfrm>
                    <a:off x="3790440" y="2646720"/>
                    <a:ext cx="1481760" cy="3003480"/>
                    <a:chOff x="3790440" y="2646720"/>
                    <a:chExt cx="1481760" cy="3003480"/>
                  </a:xfrm>
                </p:grpSpPr>
                <p:sp>
                  <p:nvSpPr>
                    <p:cNvPr id="305" name="Freeform 90"/>
                    <p:cNvSpPr/>
                    <p:nvPr/>
                  </p:nvSpPr>
                  <p:spPr>
                    <a:xfrm flipH="1" rot="17543400">
                      <a:off x="3736440" y="3438360"/>
                      <a:ext cx="1968120" cy="381960"/>
                    </a:xfrm>
                    <a:custGeom>
                      <a:avLst/>
                      <a:gdLst>
                        <a:gd name="textAreaLeft" fmla="*/ -360 w 1968120"/>
                        <a:gd name="textAreaRight" fmla="*/ 1968120 w 1968120"/>
                        <a:gd name="textAreaTop" fmla="*/ 0 h 381960"/>
                        <a:gd name="textAreaBottom" fmla="*/ 382320 h 381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06" name="Freeform 91"/>
                    <p:cNvSpPr/>
                    <p:nvPr/>
                  </p:nvSpPr>
                  <p:spPr>
                    <a:xfrm flipH="1" rot="17543400">
                      <a:off x="3741840" y="4745160"/>
                      <a:ext cx="1056240" cy="603000"/>
                    </a:xfrm>
                    <a:custGeom>
                      <a:avLst/>
                      <a:gdLst>
                        <a:gd name="textAreaLeft" fmla="*/ 360 w 1056240"/>
                        <a:gd name="textAreaRight" fmla="*/ 1056960 w 1056240"/>
                        <a:gd name="textAreaTop" fmla="*/ 0 h 603000"/>
                        <a:gd name="textAreaBottom" fmla="*/ 603360 h 60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07" name="Group 92"/>
                  <p:cNvGrpSpPr/>
                  <p:nvPr/>
                </p:nvGrpSpPr>
                <p:grpSpPr>
                  <a:xfrm>
                    <a:off x="4507560" y="2695320"/>
                    <a:ext cx="876600" cy="2932200"/>
                    <a:chOff x="4507560" y="2695320"/>
                    <a:chExt cx="876600" cy="2932200"/>
                  </a:xfrm>
                </p:grpSpPr>
                <p:sp>
                  <p:nvSpPr>
                    <p:cNvPr id="308" name="Freeform 93"/>
                    <p:cNvSpPr/>
                    <p:nvPr/>
                  </p:nvSpPr>
                  <p:spPr>
                    <a:xfrm flipH="1" rot="16870800">
                      <a:off x="4085280" y="3483000"/>
                      <a:ext cx="1890720" cy="346320"/>
                    </a:xfrm>
                    <a:custGeom>
                      <a:avLst/>
                      <a:gdLst>
                        <a:gd name="textAreaLeft" fmla="*/ 360 w 1890720"/>
                        <a:gd name="textAreaRight" fmla="*/ 1891440 w 1890720"/>
                        <a:gd name="textAreaTop" fmla="*/ 0 h 346320"/>
                        <a:gd name="textAreaBottom" fmla="*/ 346680 h 346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09" name="Freeform 94"/>
                    <p:cNvSpPr/>
                    <p:nvPr/>
                  </p:nvSpPr>
                  <p:spPr>
                    <a:xfrm flipH="1" rot="16870800">
                      <a:off x="4365720" y="4805280"/>
                      <a:ext cx="1013040" cy="544680"/>
                    </a:xfrm>
                    <a:custGeom>
                      <a:avLst/>
                      <a:gdLst>
                        <a:gd name="textAreaLeft" fmla="*/ 360 w 1013040"/>
                        <a:gd name="textAreaRight" fmla="*/ 1013760 w 1013040"/>
                        <a:gd name="textAreaTop" fmla="*/ 0 h 544680"/>
                        <a:gd name="textAreaBottom" fmla="*/ 545040 h 5446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10" name="Group 95"/>
                  <p:cNvGrpSpPr/>
                  <p:nvPr/>
                </p:nvGrpSpPr>
                <p:grpSpPr>
                  <a:xfrm>
                    <a:off x="5677560" y="2480400"/>
                    <a:ext cx="2280960" cy="2954160"/>
                    <a:chOff x="5677560" y="2480400"/>
                    <a:chExt cx="2280960" cy="2954160"/>
                  </a:xfrm>
                </p:grpSpPr>
                <p:sp>
                  <p:nvSpPr>
                    <p:cNvPr id="311" name="Freeform 96"/>
                    <p:cNvSpPr/>
                    <p:nvPr/>
                  </p:nvSpPr>
                  <p:spPr>
                    <a:xfrm rot="3144000">
                      <a:off x="5414400" y="3248280"/>
                      <a:ext cx="2127600" cy="383040"/>
                    </a:xfrm>
                    <a:custGeom>
                      <a:avLst/>
                      <a:gdLst>
                        <a:gd name="textAreaLeft" fmla="*/ 0 w 2127600"/>
                        <a:gd name="textAreaRight" fmla="*/ 2127960 w 2127600"/>
                        <a:gd name="textAreaTop" fmla="*/ 0 h 383040"/>
                        <a:gd name="textAreaBottom" fmla="*/ 383400 h 383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12" name="Freeform 97"/>
                    <p:cNvSpPr/>
                    <p:nvPr/>
                  </p:nvSpPr>
                  <p:spPr>
                    <a:xfrm rot="3144000">
                      <a:off x="6801120" y="4496400"/>
                      <a:ext cx="1140120" cy="604080"/>
                    </a:xfrm>
                    <a:custGeom>
                      <a:avLst/>
                      <a:gdLst>
                        <a:gd name="textAreaLeft" fmla="*/ 0 w 1140120"/>
                        <a:gd name="textAreaRight" fmla="*/ 1140480 w 114012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13" name="Group 98"/>
                  <p:cNvGrpSpPr/>
                  <p:nvPr/>
                </p:nvGrpSpPr>
                <p:grpSpPr>
                  <a:xfrm>
                    <a:off x="5646600" y="2591640"/>
                    <a:ext cx="1756800" cy="3031200"/>
                    <a:chOff x="5646600" y="2591640"/>
                    <a:chExt cx="1756800" cy="3031200"/>
                  </a:xfrm>
                </p:grpSpPr>
                <p:sp>
                  <p:nvSpPr>
                    <p:cNvPr id="314" name="Freeform 99"/>
                    <p:cNvSpPr/>
                    <p:nvPr/>
                  </p:nvSpPr>
                  <p:spPr>
                    <a:xfrm rot="3745200">
                      <a:off x="5263560" y="3394080"/>
                      <a:ext cx="2035080" cy="369720"/>
                    </a:xfrm>
                    <a:custGeom>
                      <a:avLst/>
                      <a:gdLst>
                        <a:gd name="textAreaLeft" fmla="*/ 0 w 2035080"/>
                        <a:gd name="textAreaRight" fmla="*/ 2035440 w 2035080"/>
                        <a:gd name="textAreaTop" fmla="*/ 0 h 369720"/>
                        <a:gd name="textAreaBottom" fmla="*/ 370080 h 3697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15" name="Freeform 100"/>
                    <p:cNvSpPr/>
                    <p:nvPr/>
                  </p:nvSpPr>
                  <p:spPr>
                    <a:xfrm rot="3745200">
                      <a:off x="6351120" y="4718880"/>
                      <a:ext cx="1089720" cy="575640"/>
                    </a:xfrm>
                    <a:custGeom>
                      <a:avLst/>
                      <a:gdLst>
                        <a:gd name="textAreaLeft" fmla="*/ 0 w 1089720"/>
                        <a:gd name="textAreaRight" fmla="*/ 1090080 w 1089720"/>
                        <a:gd name="textAreaTop" fmla="*/ 0 h 575640"/>
                        <a:gd name="textAreaBottom" fmla="*/ 575640 h 575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16" name="Group 101"/>
                  <p:cNvGrpSpPr/>
                  <p:nvPr/>
                </p:nvGrpSpPr>
                <p:grpSpPr>
                  <a:xfrm>
                    <a:off x="5576400" y="2706840"/>
                    <a:ext cx="1228680" cy="2990520"/>
                    <a:chOff x="5576400" y="2706840"/>
                    <a:chExt cx="1228680" cy="2990520"/>
                  </a:xfrm>
                </p:grpSpPr>
                <p:sp>
                  <p:nvSpPr>
                    <p:cNvPr id="317" name="Freeform 102"/>
                    <p:cNvSpPr/>
                    <p:nvPr/>
                  </p:nvSpPr>
                  <p:spPr>
                    <a:xfrm rot="4286400">
                      <a:off x="5047200" y="3538440"/>
                      <a:ext cx="1973160" cy="303120"/>
                    </a:xfrm>
                    <a:custGeom>
                      <a:avLst/>
                      <a:gdLst>
                        <a:gd name="textAreaLeft" fmla="*/ 0 w 1973160"/>
                        <a:gd name="textAreaRight" fmla="*/ 1973520 w 197316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18" name="Freeform 103"/>
                    <p:cNvSpPr/>
                    <p:nvPr/>
                  </p:nvSpPr>
                  <p:spPr>
                    <a:xfrm rot="4286400">
                      <a:off x="5880600" y="4880880"/>
                      <a:ext cx="1059840" cy="475920"/>
                    </a:xfrm>
                    <a:custGeom>
                      <a:avLst/>
                      <a:gdLst>
                        <a:gd name="textAreaLeft" fmla="*/ 0 w 1059840"/>
                        <a:gd name="textAreaRight" fmla="*/ 1060200 w 1059840"/>
                        <a:gd name="textAreaTop" fmla="*/ 0 h 475920"/>
                        <a:gd name="textAreaBottom" fmla="*/ 476280 h 475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19" name="Group 104"/>
                  <p:cNvGrpSpPr/>
                  <p:nvPr/>
                </p:nvGrpSpPr>
                <p:grpSpPr>
                  <a:xfrm>
                    <a:off x="5521320" y="2836800"/>
                    <a:ext cx="696600" cy="2783520"/>
                    <a:chOff x="5521320" y="2836800"/>
                    <a:chExt cx="696600" cy="2783520"/>
                  </a:xfrm>
                </p:grpSpPr>
                <p:sp>
                  <p:nvSpPr>
                    <p:cNvPr id="320" name="Freeform 105"/>
                    <p:cNvSpPr/>
                    <p:nvPr/>
                  </p:nvSpPr>
                  <p:spPr>
                    <a:xfrm rot="4898400">
                      <a:off x="4896000" y="3604320"/>
                      <a:ext cx="1814040" cy="303120"/>
                    </a:xfrm>
                    <a:custGeom>
                      <a:avLst/>
                      <a:gdLst>
                        <a:gd name="textAreaLeft" fmla="*/ 0 w 1814040"/>
                        <a:gd name="textAreaRight" fmla="*/ 1814400 w 181404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21" name="Freeform 106"/>
                    <p:cNvSpPr/>
                    <p:nvPr/>
                  </p:nvSpPr>
                  <p:spPr>
                    <a:xfrm rot="4898400">
                      <a:off x="5424480" y="4866120"/>
                      <a:ext cx="974880" cy="474480"/>
                    </a:xfrm>
                    <a:custGeom>
                      <a:avLst/>
                      <a:gdLst>
                        <a:gd name="textAreaLeft" fmla="*/ 0 w 974880"/>
                        <a:gd name="textAreaRight" fmla="*/ 975240 w 974880"/>
                        <a:gd name="textAreaTop" fmla="*/ 0 h 474480"/>
                        <a:gd name="textAreaBottom" fmla="*/ 474840 h 4744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22" name="Group 107"/>
                  <p:cNvGrpSpPr/>
                  <p:nvPr/>
                </p:nvGrpSpPr>
                <p:grpSpPr>
                  <a:xfrm>
                    <a:off x="4963680" y="2883600"/>
                    <a:ext cx="664560" cy="2716920"/>
                    <a:chOff x="4963680" y="2883600"/>
                    <a:chExt cx="664560" cy="2716920"/>
                  </a:xfrm>
                </p:grpSpPr>
                <p:sp>
                  <p:nvSpPr>
                    <p:cNvPr id="323" name="Freeform 108"/>
                    <p:cNvSpPr/>
                    <p:nvPr/>
                  </p:nvSpPr>
                  <p:spPr>
                    <a:xfrm rot="5755200">
                      <a:off x="4534200" y="3661920"/>
                      <a:ext cx="1774440" cy="231480"/>
                    </a:xfrm>
                    <a:custGeom>
                      <a:avLst/>
                      <a:gdLst>
                        <a:gd name="textAreaLeft" fmla="*/ 0 w 1774440"/>
                        <a:gd name="textAreaRight" fmla="*/ 1774800 w 177444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24" name="Freeform 109"/>
                    <p:cNvSpPr/>
                    <p:nvPr/>
                  </p:nvSpPr>
                  <p:spPr>
                    <a:xfrm rot="5755200">
                      <a:off x="4718160" y="4926240"/>
                      <a:ext cx="951120" cy="364680"/>
                    </a:xfrm>
                    <a:custGeom>
                      <a:avLst/>
                      <a:gdLst>
                        <a:gd name="textAreaLeft" fmla="*/ 0 w 951120"/>
                        <a:gd name="textAreaRight" fmla="*/ 951480 w 951120"/>
                        <a:gd name="textAreaTop" fmla="*/ 0 h 364680"/>
                        <a:gd name="textAreaBottom" fmla="*/ 365040 h 3646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325" name="Group 110"/>
              <p:cNvGrpSpPr/>
              <p:nvPr/>
            </p:nvGrpSpPr>
            <p:grpSpPr>
              <a:xfrm>
                <a:off x="2174400" y="677880"/>
                <a:ext cx="6732720" cy="4526280"/>
                <a:chOff x="2174400" y="677880"/>
                <a:chExt cx="6732720" cy="4526280"/>
              </a:xfrm>
            </p:grpSpPr>
            <p:grpSp>
              <p:nvGrpSpPr>
                <p:cNvPr id="326" name="Group 111"/>
                <p:cNvGrpSpPr/>
                <p:nvPr/>
              </p:nvGrpSpPr>
              <p:grpSpPr>
                <a:xfrm>
                  <a:off x="2174400" y="677880"/>
                  <a:ext cx="6732720" cy="4526280"/>
                  <a:chOff x="2174400" y="677880"/>
                  <a:chExt cx="6732720" cy="4526280"/>
                </a:xfrm>
              </p:grpSpPr>
              <p:sp>
                <p:nvSpPr>
                  <p:cNvPr id="327" name="Arc 112"/>
                  <p:cNvSpPr/>
                  <p:nvPr/>
                </p:nvSpPr>
                <p:spPr>
                  <a:xfrm flipV="1">
                    <a:off x="5740560" y="851760"/>
                    <a:ext cx="3166560" cy="2527560"/>
                  </a:xfrm>
                  <a:custGeom>
                    <a:avLst/>
                    <a:gdLst>
                      <a:gd name="textAreaLeft" fmla="*/ 0 w 3166560"/>
                      <a:gd name="textAreaRight" fmla="*/ 3166920 w 3166560"/>
                      <a:gd name="textAreaTop" fmla="*/ -360 h 2527560"/>
                      <a:gd name="textAreaBottom" fmla="*/ 2527560 h 252756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8" name="Arc 113"/>
                  <p:cNvSpPr/>
                  <p:nvPr/>
                </p:nvSpPr>
                <p:spPr>
                  <a:xfrm flipH="1">
                    <a:off x="2561400" y="2268360"/>
                    <a:ext cx="2486880" cy="2935800"/>
                  </a:xfrm>
                  <a:custGeom>
                    <a:avLst/>
                    <a:gdLst>
                      <a:gd name="textAreaLeft" fmla="*/ 360 w 2486880"/>
                      <a:gd name="textAreaRight" fmla="*/ 2487600 w 2486880"/>
                      <a:gd name="textAreaTop" fmla="*/ 0 h 2935800"/>
                      <a:gd name="textAreaBottom" fmla="*/ 2936160 h 293580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9" name="Arc 114"/>
                  <p:cNvSpPr/>
                  <p:nvPr/>
                </p:nvSpPr>
                <p:spPr>
                  <a:xfrm>
                    <a:off x="5818320" y="1748880"/>
                    <a:ext cx="1758240" cy="2936880"/>
                  </a:xfrm>
                  <a:custGeom>
                    <a:avLst/>
                    <a:gdLst>
                      <a:gd name="textAreaLeft" fmla="*/ 0 w 1758240"/>
                      <a:gd name="textAreaRight" fmla="*/ 1758600 w 1758240"/>
                      <a:gd name="textAreaTop" fmla="*/ 0 h 2936880"/>
                      <a:gd name="textAreaBottom" fmla="*/ 2937240 h 293688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30" name="Arc 115"/>
                  <p:cNvSpPr/>
                  <p:nvPr/>
                </p:nvSpPr>
                <p:spPr>
                  <a:xfrm flipH="1">
                    <a:off x="2174400" y="1294920"/>
                    <a:ext cx="3133440" cy="2936880"/>
                  </a:xfrm>
                  <a:custGeom>
                    <a:avLst/>
                    <a:gdLst>
                      <a:gd name="textAreaLeft" fmla="*/ 360 w 3133440"/>
                      <a:gd name="textAreaRight" fmla="*/ 3134160 w 3133440"/>
                      <a:gd name="textAreaTop" fmla="*/ 0 h 2936880"/>
                      <a:gd name="textAreaBottom" fmla="*/ 2937240 h 293688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31" name="Arc 116"/>
                  <p:cNvSpPr/>
                  <p:nvPr/>
                </p:nvSpPr>
                <p:spPr>
                  <a:xfrm flipH="1">
                    <a:off x="3056400" y="677880"/>
                    <a:ext cx="2282760" cy="2843280"/>
                  </a:xfrm>
                  <a:custGeom>
                    <a:avLst/>
                    <a:gdLst>
                      <a:gd name="textAreaLeft" fmla="*/ -360 w 2282760"/>
                      <a:gd name="textAreaRight" fmla="*/ 2282760 w 2282760"/>
                      <a:gd name="textAreaTop" fmla="*/ 0 h 2843280"/>
                      <a:gd name="textAreaBottom" fmla="*/ 2843640 h 284328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32" name="Arc 117"/>
                  <p:cNvSpPr/>
                  <p:nvPr/>
                </p:nvSpPr>
                <p:spPr>
                  <a:xfrm>
                    <a:off x="5491440" y="1872360"/>
                    <a:ext cx="940680" cy="2843280"/>
                  </a:xfrm>
                  <a:custGeom>
                    <a:avLst/>
                    <a:gdLst>
                      <a:gd name="textAreaLeft" fmla="*/ 0 w 940680"/>
                      <a:gd name="textAreaRight" fmla="*/ 941040 w 940680"/>
                      <a:gd name="textAreaTop" fmla="*/ 0 h 2843280"/>
                      <a:gd name="textAreaBottom" fmla="*/ 2843640 h 284328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4e8a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33" name="Freeform 118"/>
                  <p:cNvSpPr/>
                  <p:nvPr/>
                </p:nvSpPr>
                <p:spPr>
                  <a:xfrm flipH="1">
                    <a:off x="4302000" y="830880"/>
                    <a:ext cx="515160" cy="188064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80640"/>
                      <a:gd name="textAreaBottom" fmla="*/ 1881000 h 188064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334" name="Freeform 119"/>
                <p:cNvSpPr/>
                <p:nvPr/>
              </p:nvSpPr>
              <p:spPr>
                <a:xfrm rot="20253000">
                  <a:off x="6127560" y="2179440"/>
                  <a:ext cx="546120" cy="1032840"/>
                </a:xfrm>
                <a:custGeom>
                  <a:avLst/>
                  <a:gdLst>
                    <a:gd name="textAreaLeft" fmla="*/ 0 w 546120"/>
                    <a:gd name="textAreaRight" fmla="*/ 546480 w 546120"/>
                    <a:gd name="textAreaTop" fmla="*/ 0 h 1032840"/>
                    <a:gd name="textAreaBottom" fmla="*/ 1033200 h 103284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04e8a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335" name="Group 120"/>
            <p:cNvGrpSpPr/>
            <p:nvPr/>
          </p:nvGrpSpPr>
          <p:grpSpPr>
            <a:xfrm>
              <a:off x="2343960" y="730080"/>
              <a:ext cx="6411960" cy="4710960"/>
              <a:chOff x="2343960" y="730080"/>
              <a:chExt cx="6411960" cy="4710960"/>
            </a:xfrm>
          </p:grpSpPr>
          <p:sp>
            <p:nvSpPr>
              <p:cNvPr id="336" name="Freeform 121"/>
              <p:cNvSpPr/>
              <p:nvPr/>
            </p:nvSpPr>
            <p:spPr>
              <a:xfrm flipH="1">
                <a:off x="4470840" y="3253680"/>
                <a:ext cx="598320" cy="1824840"/>
              </a:xfrm>
              <a:custGeom>
                <a:avLst/>
                <a:gdLst>
                  <a:gd name="textAreaLeft" fmla="*/ 360 w 598320"/>
                  <a:gd name="textAreaRight" fmla="*/ 599040 w 598320"/>
                  <a:gd name="textAreaTop" fmla="*/ 0 h 1824840"/>
                  <a:gd name="textAreaBottom" fmla="*/ 1825200 h 18248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337" name="Arc 122"/>
              <p:cNvSpPr/>
              <p:nvPr/>
            </p:nvSpPr>
            <p:spPr>
              <a:xfrm flipH="1">
                <a:off x="3385440" y="2598120"/>
                <a:ext cx="2617200" cy="2842920"/>
              </a:xfrm>
              <a:custGeom>
                <a:avLst/>
                <a:gdLst>
                  <a:gd name="textAreaLeft" fmla="*/ 0 w 2617200"/>
                  <a:gd name="textAreaRight" fmla="*/ 2617200 w 2617200"/>
                  <a:gd name="textAreaTop" fmla="*/ 0 h 2842920"/>
                  <a:gd name="textAreaBottom" fmla="*/ 2843280 h 284292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338" name="Arc 123"/>
              <p:cNvSpPr/>
              <p:nvPr/>
            </p:nvSpPr>
            <p:spPr>
              <a:xfrm flipH="1">
                <a:off x="3646800" y="2140200"/>
                <a:ext cx="1534320" cy="2935800"/>
              </a:xfrm>
              <a:custGeom>
                <a:avLst/>
                <a:gdLst>
                  <a:gd name="textAreaLeft" fmla="*/ 360 w 1534320"/>
                  <a:gd name="textAreaRight" fmla="*/ 1535040 w 1534320"/>
                  <a:gd name="textAreaTop" fmla="*/ 0 h 2935800"/>
                  <a:gd name="textAreaBottom" fmla="*/ 2936160 h 29358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339" name="Arc 124"/>
              <p:cNvSpPr/>
              <p:nvPr/>
            </p:nvSpPr>
            <p:spPr>
              <a:xfrm flipH="1">
                <a:off x="2343600" y="1756800"/>
                <a:ext cx="2930760" cy="2935800"/>
              </a:xfrm>
              <a:custGeom>
                <a:avLst/>
                <a:gdLst>
                  <a:gd name="textAreaLeft" fmla="*/ -360 w 2930760"/>
                  <a:gd name="textAreaRight" fmla="*/ 2930760 w 2930760"/>
                  <a:gd name="textAreaTop" fmla="*/ 0 h 2935800"/>
                  <a:gd name="textAreaBottom" fmla="*/ 2936160 h 293580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340" name="Arc 125"/>
              <p:cNvSpPr/>
              <p:nvPr/>
            </p:nvSpPr>
            <p:spPr>
              <a:xfrm>
                <a:off x="5588640" y="2169000"/>
                <a:ext cx="469800" cy="29358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5800"/>
                  <a:gd name="textAreaBottom" fmla="*/ 2936160 h 29358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341" name="Arc 126"/>
              <p:cNvSpPr/>
              <p:nvPr/>
            </p:nvSpPr>
            <p:spPr>
              <a:xfrm>
                <a:off x="5711760" y="2154960"/>
                <a:ext cx="1238040" cy="2935800"/>
              </a:xfrm>
              <a:custGeom>
                <a:avLst/>
                <a:gdLst>
                  <a:gd name="textAreaLeft" fmla="*/ 0 w 1238040"/>
                  <a:gd name="textAreaRight" fmla="*/ 1238400 w 1238040"/>
                  <a:gd name="textAreaTop" fmla="*/ 0 h 2935800"/>
                  <a:gd name="textAreaBottom" fmla="*/ 2936160 h 29358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342" name="Freeform 127"/>
              <p:cNvSpPr/>
              <p:nvPr/>
            </p:nvSpPr>
            <p:spPr>
              <a:xfrm>
                <a:off x="6155640" y="3565800"/>
                <a:ext cx="598320" cy="1824840"/>
              </a:xfrm>
              <a:custGeom>
                <a:avLst/>
                <a:gdLst>
                  <a:gd name="textAreaLeft" fmla="*/ 0 w 598320"/>
                  <a:gd name="textAreaRight" fmla="*/ 598680 w 598320"/>
                  <a:gd name="textAreaTop" fmla="*/ 0 h 1824840"/>
                  <a:gd name="textAreaBottom" fmla="*/ 1825200 h 18248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343" name="Freeform 128"/>
              <p:cNvSpPr/>
              <p:nvPr/>
            </p:nvSpPr>
            <p:spPr>
              <a:xfrm flipV="1" rot="19660800">
                <a:off x="5227200" y="2964960"/>
                <a:ext cx="543600" cy="1034280"/>
              </a:xfrm>
              <a:custGeom>
                <a:avLst/>
                <a:gdLst>
                  <a:gd name="textAreaLeft" fmla="*/ 0 w 543600"/>
                  <a:gd name="textAreaRight" fmla="*/ 543960 w 543600"/>
                  <a:gd name="textAreaTop" fmla="*/ -360 h 1034280"/>
                  <a:gd name="textAreaBottom" fmla="*/ 1034280 h 10342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344" name="Freeform 129"/>
              <p:cNvSpPr/>
              <p:nvPr/>
            </p:nvSpPr>
            <p:spPr>
              <a:xfrm flipH="1">
                <a:off x="2688120" y="3403080"/>
                <a:ext cx="1338480" cy="1880280"/>
              </a:xfrm>
              <a:custGeom>
                <a:avLst/>
                <a:gdLst>
                  <a:gd name="textAreaLeft" fmla="*/ 360 w 1338480"/>
                  <a:gd name="textAreaRight" fmla="*/ 1339200 w 1338480"/>
                  <a:gd name="textAreaTop" fmla="*/ 0 h 1880280"/>
                  <a:gd name="textAreaBottom" fmla="*/ 1880640 h 18802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345" name="Freeform 130"/>
              <p:cNvSpPr/>
              <p:nvPr/>
            </p:nvSpPr>
            <p:spPr>
              <a:xfrm flipH="1">
                <a:off x="3318840" y="1416240"/>
                <a:ext cx="858240" cy="1880280"/>
              </a:xfrm>
              <a:custGeom>
                <a:avLst/>
                <a:gdLst>
                  <a:gd name="textAreaLeft" fmla="*/ 360 w 858240"/>
                  <a:gd name="textAreaRight" fmla="*/ 858960 w 858240"/>
                  <a:gd name="textAreaTop" fmla="*/ 0 h 1880280"/>
                  <a:gd name="textAreaBottom" fmla="*/ 1880640 h 18802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346" name="Freeform 131"/>
              <p:cNvSpPr/>
              <p:nvPr/>
            </p:nvSpPr>
            <p:spPr>
              <a:xfrm>
                <a:off x="7513920" y="3126600"/>
                <a:ext cx="1242000" cy="1974240"/>
              </a:xfrm>
              <a:custGeom>
                <a:avLst/>
                <a:gdLst>
                  <a:gd name="textAreaLeft" fmla="*/ 0 w 1242000"/>
                  <a:gd name="textAreaRight" fmla="*/ 1242360 w 1242000"/>
                  <a:gd name="textAreaTop" fmla="*/ 0 h 1974240"/>
                  <a:gd name="textAreaBottom" fmla="*/ 1974600 h 1974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347" name="Freeform 132"/>
              <p:cNvSpPr/>
              <p:nvPr/>
            </p:nvSpPr>
            <p:spPr>
              <a:xfrm>
                <a:off x="6868800" y="2127960"/>
                <a:ext cx="1872360" cy="1316520"/>
              </a:xfrm>
              <a:custGeom>
                <a:avLst/>
                <a:gdLst>
                  <a:gd name="textAreaLeft" fmla="*/ 0 w 1872360"/>
                  <a:gd name="textAreaRight" fmla="*/ 1872720 w 1872360"/>
                  <a:gd name="textAreaTop" fmla="*/ 0 h 1316520"/>
                  <a:gd name="textAreaBottom" fmla="*/ 1316880 h 13165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348" name="Freeform 133"/>
              <p:cNvSpPr/>
              <p:nvPr/>
            </p:nvSpPr>
            <p:spPr>
              <a:xfrm>
                <a:off x="6937920" y="730080"/>
                <a:ext cx="819000" cy="1769400"/>
              </a:xfrm>
              <a:custGeom>
                <a:avLst/>
                <a:gdLst>
                  <a:gd name="textAreaLeft" fmla="*/ 0 w 819000"/>
                  <a:gd name="textAreaRight" fmla="*/ 819360 w 819000"/>
                  <a:gd name="textAreaTop" fmla="*/ 0 h 1769400"/>
                  <a:gd name="textAreaBottom" fmla="*/ 1769760 h 17694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349" name="Freeform 134"/>
              <p:cNvSpPr/>
              <p:nvPr/>
            </p:nvSpPr>
            <p:spPr>
              <a:xfrm flipH="1" rot="1347000">
                <a:off x="4183920" y="2172600"/>
                <a:ext cx="542880" cy="1032840"/>
              </a:xfrm>
              <a:custGeom>
                <a:avLst/>
                <a:gdLst>
                  <a:gd name="textAreaLeft" fmla="*/ 360 w 542880"/>
                  <a:gd name="textAreaRight" fmla="*/ 543600 w 542880"/>
                  <a:gd name="textAreaTop" fmla="*/ 0 h 1032840"/>
                  <a:gd name="textAreaBottom" fmla="*/ 1033200 h 10328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</p:grp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8f5f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D2426-0274-4B60-A196-92947B02B0CC}" type="slidenum">
              <a:rPr b="0" lang="ru-RU" sz="1400" spc="-1" strike="noStrike">
                <a:solidFill>
                  <a:srgbClr val="cc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238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ff"/>
                </a:solidFill>
                <a:latin typeface="Arial Black"/>
              </a:rPr>
              <a:t>QUTZ</a:t>
            </a:r>
            <a:endParaRPr b="0" lang="en-US" sz="9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comic"/>
              </a:rPr>
              <a:t>Famous  People</a:t>
            </a: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3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5410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f2fff"/>
                </a:solidFill>
                <a:latin typeface="Arial Black"/>
              </a:rPr>
              <a:t>Riddles</a:t>
            </a:r>
            <a:endParaRPr b="0" lang="en-US" sz="48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36" name="Прямоугольник 5"/>
          <p:cNvSpPr/>
          <p:nvPr/>
        </p:nvSpPr>
        <p:spPr>
          <a:xfrm>
            <a:off x="533520" y="1295280"/>
            <a:ext cx="4876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b"/>
                </a:solidFill>
                <a:latin typeface="Arial Black"/>
              </a:rPr>
              <a:t>What has a face but no head, and hands but no fingers? 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37" name="TextBox 6"/>
          <p:cNvSpPr/>
          <p:nvPr/>
        </p:nvSpPr>
        <p:spPr>
          <a:xfrm>
            <a:off x="4191120" y="27432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Arial Black"/>
              </a:rPr>
              <a:t>A  clock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38" name="TextBox 7"/>
          <p:cNvSpPr/>
          <p:nvPr/>
        </p:nvSpPr>
        <p:spPr>
          <a:xfrm>
            <a:off x="609480" y="4343400"/>
            <a:ext cx="510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b"/>
                </a:solidFill>
                <a:latin typeface="Arial Black"/>
              </a:rPr>
              <a:t>What can fly but has no wings? 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39" name="TextBox 8"/>
          <p:cNvSpPr/>
          <p:nvPr/>
        </p:nvSpPr>
        <p:spPr>
          <a:xfrm>
            <a:off x="5410080" y="54100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Arial Black"/>
              </a:rPr>
              <a:t>time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  <p:transition>
    <p:push dir="r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24,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24,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8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24,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24,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8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905120" y="301320"/>
            <a:ext cx="3046320" cy="129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2fff"/>
                </a:solidFill>
                <a:latin typeface="Arial Black"/>
              </a:rPr>
              <a:t>Riddles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41" name="TextBox 2"/>
          <p:cNvSpPr/>
          <p:nvPr/>
        </p:nvSpPr>
        <p:spPr>
          <a:xfrm>
            <a:off x="1066680" y="2133720"/>
            <a:ext cx="5562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b"/>
                </a:solidFill>
                <a:latin typeface="Arial Black"/>
              </a:rPr>
              <a:t>The little old woman who has 12 children: 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b"/>
                </a:solidFill>
                <a:latin typeface="Arial Black"/>
              </a:rPr>
              <a:t>some short, some long, some cold, some hot. 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b"/>
                </a:solidFill>
                <a:latin typeface="Arial Black"/>
              </a:rPr>
              <a:t>What is it? 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42" name="TextBox 3"/>
          <p:cNvSpPr/>
          <p:nvPr/>
        </p:nvSpPr>
        <p:spPr>
          <a:xfrm>
            <a:off x="5334120" y="53341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Arial Black"/>
              </a:rPr>
              <a:t>A  year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  <p:transition>
    <p:push dir="r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24,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24,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8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Box 1"/>
          <p:cNvSpPr/>
          <p:nvPr/>
        </p:nvSpPr>
        <p:spPr>
          <a:xfrm>
            <a:off x="762120" y="2925720"/>
            <a:ext cx="739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askerville Old Face"/>
              </a:rPr>
              <a:t>The   end</a:t>
            </a:r>
            <a:endParaRPr b="0" lang="en-US" sz="96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 Black"/>
              </a:rPr>
              <a:t>Answer the questions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56840" y="19047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What is the official name of the country</a:t>
            </a:r>
            <a:r>
              <a:rPr b="0" lang="ru-RU" sz="2800" spc="-1" strike="noStrike">
                <a:solidFill>
                  <a:srgbClr val="ccffff"/>
                </a:solidFill>
                <a:latin typeface="Arial Black"/>
              </a:rPr>
              <a:t>, </a:t>
            </a: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which we call Great Britain</a:t>
            </a:r>
            <a:r>
              <a:rPr b="0" lang="ru-RU" sz="2800" spc="-1" strike="noStrike">
                <a:solidFill>
                  <a:srgbClr val="ccffff"/>
                </a:solidFill>
                <a:latin typeface="Arial Black"/>
              </a:rPr>
              <a:t>? 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What is the name of the flag of the UK? 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Who is the queen of the UK? 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What is the official Queen’s home in London? 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What is the capital of the UK? 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What the river is London situated? 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  <p:transition>
    <p:push dir="r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24,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24,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24,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24,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24,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24,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24,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24,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24,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24,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24,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24,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Arial Black"/>
              </a:rPr>
              <a:t>Match the English words </a:t>
            </a:r>
            <a:br>
              <a:rPr sz="3600"/>
            </a:br>
            <a:r>
              <a:rPr b="1" lang="en-US" sz="3600" spc="-1" strike="noStrike">
                <a:solidFill>
                  <a:srgbClr val="00ffff"/>
                </a:solidFill>
                <a:latin typeface="Arial Black"/>
              </a:rPr>
              <a:t>and their Russian equivalents</a:t>
            </a:r>
            <a:endParaRPr b="0" lang="en-US" sz="36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1143000" y="1980720"/>
            <a:ext cx="3657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Painter 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marL="514440" indent="-51444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Scientist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marL="514440" indent="-51444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Writer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marL="514440" indent="-51444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Architect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marL="514440" indent="-51444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Teacher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marL="514440" indent="-51444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Musician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marL="514440" indent="-51444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Poet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marL="514440" indent="-51444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politician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5105160" y="1981080"/>
            <a:ext cx="3429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3399"/>
              </a:buClr>
              <a:buFont typeface="Arial Black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музыкант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marL="514440" indent="-514440">
              <a:spcBef>
                <a:spcPts val="700"/>
              </a:spcBef>
              <a:buClr>
                <a:srgbClr val="ff3399"/>
              </a:buClr>
              <a:buFont typeface="Arial Black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ff"/>
                </a:solidFill>
                <a:latin typeface="Arial Black"/>
              </a:rPr>
              <a:t>политик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marL="514440" indent="-514440">
              <a:spcBef>
                <a:spcPts val="700"/>
              </a:spcBef>
              <a:buClr>
                <a:srgbClr val="ff3399"/>
              </a:buClr>
              <a:buFont typeface="Arial Black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ff"/>
                </a:solidFill>
                <a:latin typeface="Arial Black"/>
              </a:rPr>
              <a:t>поэт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marL="514440" indent="-514440">
              <a:spcBef>
                <a:spcPts val="700"/>
              </a:spcBef>
              <a:buClr>
                <a:srgbClr val="ff3399"/>
              </a:buClr>
              <a:buFont typeface="Arial Black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ff"/>
                </a:solidFill>
                <a:latin typeface="Arial Black"/>
              </a:rPr>
              <a:t>художник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marL="514440" indent="-514440">
              <a:spcBef>
                <a:spcPts val="700"/>
              </a:spcBef>
              <a:buClr>
                <a:srgbClr val="ff3399"/>
              </a:buClr>
              <a:buFont typeface="Arial Black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ff"/>
                </a:solidFill>
                <a:latin typeface="Arial Black"/>
              </a:rPr>
              <a:t>ученый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marL="514440" indent="-514440">
              <a:spcBef>
                <a:spcPts val="700"/>
              </a:spcBef>
              <a:buClr>
                <a:srgbClr val="ff3399"/>
              </a:buClr>
              <a:buFont typeface="Arial Black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ff"/>
                </a:solidFill>
                <a:latin typeface="Arial Black"/>
              </a:rPr>
              <a:t>писатель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marL="514440" indent="-514440">
              <a:spcBef>
                <a:spcPts val="700"/>
              </a:spcBef>
              <a:buClr>
                <a:srgbClr val="ff3399"/>
              </a:buClr>
              <a:buFont typeface="Arial Black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ff"/>
                </a:solidFill>
                <a:latin typeface="Arial Black"/>
              </a:rPr>
              <a:t>учитель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marL="514440" indent="-514440">
              <a:spcBef>
                <a:spcPts val="700"/>
              </a:spcBef>
              <a:buClr>
                <a:srgbClr val="ff3399"/>
              </a:buClr>
              <a:buFont typeface="Arial Black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ff"/>
                </a:solidFill>
                <a:latin typeface="Arial Black"/>
              </a:rPr>
              <a:t>архитектор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  <p:transition>
    <p:push dir="r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"/>
          <p:cNvPicPr/>
          <p:nvPr/>
        </p:nvPicPr>
        <p:blipFill>
          <a:blip r:embed="rId1"/>
          <a:srcRect l="6663" t="0" r="7612" b="0"/>
          <a:stretch/>
        </p:blipFill>
        <p:spPr>
          <a:xfrm>
            <a:off x="190440" y="2454120"/>
            <a:ext cx="7353360" cy="4403880"/>
          </a:xfrm>
          <a:prstGeom prst="rect">
            <a:avLst/>
          </a:prstGeom>
          <a:ln w="0">
            <a:noFill/>
          </a:ln>
        </p:spPr>
      </p:pic>
      <p:sp>
        <p:nvSpPr>
          <p:cNvPr id="406" name="TextBox 2"/>
          <p:cNvSpPr/>
          <p:nvPr/>
        </p:nvSpPr>
        <p:spPr>
          <a:xfrm>
            <a:off x="2286000" y="762120"/>
            <a:ext cx="281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f2fff"/>
                </a:solidFill>
                <a:latin typeface="Baskerville Old Face"/>
              </a:rPr>
              <a:t>S</a:t>
            </a:r>
            <a:r>
              <a:rPr b="1" lang="en-US" sz="6000" spc="-1" strike="noStrike">
                <a:solidFill>
                  <a:srgbClr val="c00000"/>
                </a:solidFill>
                <a:latin typeface="Baskerville Old Face"/>
              </a:rPr>
              <a:t>tree</a:t>
            </a:r>
            <a:r>
              <a:rPr b="1" lang="en-US" sz="6000" spc="-1" strike="noStrike">
                <a:solidFill>
                  <a:srgbClr val="2f2fff"/>
                </a:solidFill>
                <a:latin typeface="Baskerville Old Face"/>
              </a:rPr>
              <a:t>t</a:t>
            </a:r>
            <a:endParaRPr b="0" lang="en-US" sz="60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  <p:transition>
    <p:push dir="r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2" descr=""/>
          <p:cNvPicPr/>
          <p:nvPr/>
        </p:nvPicPr>
        <p:blipFill>
          <a:blip r:embed="rId1"/>
          <a:stretch/>
        </p:blipFill>
        <p:spPr>
          <a:xfrm>
            <a:off x="304920" y="936720"/>
            <a:ext cx="6400800" cy="6168960"/>
          </a:xfrm>
          <a:prstGeom prst="rect">
            <a:avLst/>
          </a:prstGeom>
          <a:ln w="0">
            <a:noFill/>
          </a:ln>
        </p:spPr>
      </p:pic>
      <p:sp>
        <p:nvSpPr>
          <p:cNvPr id="408" name="TextBox 2"/>
          <p:cNvSpPr/>
          <p:nvPr/>
        </p:nvSpPr>
        <p:spPr>
          <a:xfrm>
            <a:off x="2438280" y="152280"/>
            <a:ext cx="304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f2fff"/>
                </a:solidFill>
                <a:latin typeface="Baskerville Old Face"/>
              </a:rPr>
              <a:t>M</a:t>
            </a:r>
            <a:r>
              <a:rPr b="1" lang="en-US" sz="6000" spc="-1" strike="noStrike">
                <a:solidFill>
                  <a:srgbClr val="c00000"/>
                </a:solidFill>
                <a:latin typeface="Baskerville Old Face"/>
              </a:rPr>
              <a:t>on</a:t>
            </a:r>
            <a:r>
              <a:rPr b="1" lang="en-US" sz="6000" spc="-1" strike="noStrike">
                <a:solidFill>
                  <a:srgbClr val="2f2fff"/>
                </a:solidFill>
                <a:latin typeface="Baskerville Old Face"/>
              </a:rPr>
              <a:t>th</a:t>
            </a:r>
            <a:endParaRPr b="0" lang="en-US" sz="60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  <p:transition>
    <p:push dir="r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"/>
          <p:cNvPicPr/>
          <p:nvPr/>
        </p:nvPicPr>
        <p:blipFill>
          <a:blip r:embed="rId1"/>
          <a:srcRect l="9923" t="9233" r="12249" b="10613"/>
          <a:stretch/>
        </p:blipFill>
        <p:spPr>
          <a:xfrm>
            <a:off x="609480" y="2438280"/>
            <a:ext cx="6782040" cy="4191120"/>
          </a:xfrm>
          <a:prstGeom prst="rect">
            <a:avLst/>
          </a:prstGeom>
          <a:ln w="0">
            <a:noFill/>
          </a:ln>
        </p:spPr>
      </p:pic>
      <p:sp>
        <p:nvSpPr>
          <p:cNvPr id="410" name="TextBox 2"/>
          <p:cNvSpPr/>
          <p:nvPr/>
        </p:nvSpPr>
        <p:spPr>
          <a:xfrm>
            <a:off x="2438280" y="609480"/>
            <a:ext cx="259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f2fff"/>
                </a:solidFill>
                <a:latin typeface="Baskerville Old Face"/>
              </a:rPr>
              <a:t>P</a:t>
            </a:r>
            <a:r>
              <a:rPr b="1" lang="en-US" sz="6000" spc="-1" strike="noStrike">
                <a:solidFill>
                  <a:srgbClr val="c00000"/>
                </a:solidFill>
                <a:latin typeface="Baskerville Old Face"/>
              </a:rPr>
              <a:t>ear</a:t>
            </a:r>
            <a:endParaRPr b="0" lang="en-US" sz="60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  <p:transition>
    <p:push dir="r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2" descr=""/>
          <p:cNvPicPr/>
          <p:nvPr/>
        </p:nvPicPr>
        <p:blipFill>
          <a:blip r:embed="rId1"/>
          <a:srcRect l="16125" t="0" r="16083" b="0"/>
          <a:stretch/>
        </p:blipFill>
        <p:spPr>
          <a:xfrm>
            <a:off x="1752480" y="2057400"/>
            <a:ext cx="4496040" cy="4724280"/>
          </a:xfrm>
          <a:prstGeom prst="rect">
            <a:avLst/>
          </a:prstGeom>
          <a:ln w="0">
            <a:noFill/>
          </a:ln>
        </p:spPr>
      </p:pic>
      <p:sp>
        <p:nvSpPr>
          <p:cNvPr id="412" name="TextBox 2"/>
          <p:cNvSpPr/>
          <p:nvPr/>
        </p:nvSpPr>
        <p:spPr>
          <a:xfrm>
            <a:off x="3048120" y="533520"/>
            <a:ext cx="2590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f2fff"/>
                </a:solidFill>
                <a:latin typeface="Arial Black"/>
              </a:rPr>
              <a:t>N</a:t>
            </a:r>
            <a:r>
              <a:rPr b="1" lang="en-US" sz="6000" spc="-1" strike="noStrike">
                <a:solidFill>
                  <a:srgbClr val="c00000"/>
                </a:solidFill>
                <a:latin typeface="Arial Black"/>
              </a:rPr>
              <a:t>in</a:t>
            </a:r>
            <a:r>
              <a:rPr b="1" lang="en-US" sz="6000" spc="-1" strike="noStrike">
                <a:solidFill>
                  <a:srgbClr val="2f2fff"/>
                </a:solidFill>
                <a:latin typeface="Arial Black"/>
              </a:rPr>
              <a:t>e</a:t>
            </a:r>
            <a:endParaRPr b="0" lang="en-US" sz="60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  <p:transition>
    <p:push dir="r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Arial Black"/>
              </a:rPr>
              <a:t>Find </a:t>
            </a:r>
            <a:br>
              <a:rPr sz="3600"/>
            </a:br>
            <a:r>
              <a:rPr b="1" lang="en-US" sz="3600" spc="-1" strike="noStrike">
                <a:solidFill>
                  <a:srgbClr val="00ffff"/>
                </a:solidFill>
                <a:latin typeface="Arial Black"/>
              </a:rPr>
              <a:t>the second part of the name</a:t>
            </a:r>
            <a:br>
              <a:rPr sz="3600"/>
            </a:br>
            <a:endParaRPr b="0" lang="en-US" sz="36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1294920" y="2133360"/>
            <a:ext cx="3124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Charles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marL="514440" indent="-51444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Margaret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marL="514440" indent="-51444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John R.R.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marL="514440" indent="-51444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Joseph 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marL="514440" indent="-51444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William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marL="514440" indent="-51444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Daniel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marL="514440" indent="-51444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Agatha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marL="514440" indent="-51444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Charlie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5105520" y="2133360"/>
            <a:ext cx="3504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3399"/>
              </a:buClr>
              <a:buFont typeface="Arial Black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Chaplin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marL="514440" indent="-514440">
              <a:spcBef>
                <a:spcPts val="700"/>
              </a:spcBef>
              <a:buClr>
                <a:srgbClr val="ff3399"/>
              </a:buClr>
              <a:buFont typeface="Arial Black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Christie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marL="514440" indent="-514440">
              <a:spcBef>
                <a:spcPts val="700"/>
              </a:spcBef>
              <a:buClr>
                <a:srgbClr val="ff3399"/>
              </a:buClr>
              <a:buFont typeface="Arial Black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Shakespeare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marL="514440" indent="-514440">
              <a:spcBef>
                <a:spcPts val="700"/>
              </a:spcBef>
              <a:buClr>
                <a:srgbClr val="ff3399"/>
              </a:buClr>
              <a:buFont typeface="Arial Black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Defoe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marL="514440" indent="-514440">
              <a:spcBef>
                <a:spcPts val="700"/>
              </a:spcBef>
              <a:buClr>
                <a:srgbClr val="ff3399"/>
              </a:buClr>
              <a:buFont typeface="Arial Black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Darwin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marL="514440" indent="-514440">
              <a:spcBef>
                <a:spcPts val="700"/>
              </a:spcBef>
              <a:buClr>
                <a:srgbClr val="ff3399"/>
              </a:buClr>
              <a:buFont typeface="Arial Black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Thatcher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marL="514440" indent="-514440">
              <a:spcBef>
                <a:spcPts val="700"/>
              </a:spcBef>
              <a:buClr>
                <a:srgbClr val="ff3399"/>
              </a:buClr>
              <a:buFont typeface="Arial Black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Tolkien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marL="514440" indent="-514440">
              <a:spcBef>
                <a:spcPts val="700"/>
              </a:spcBef>
              <a:buClr>
                <a:srgbClr val="ff3399"/>
              </a:buClr>
              <a:buFont typeface="Arial Black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Turner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  <p:transition>
    <p:push dir="r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4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752480" y="76320"/>
            <a:ext cx="5639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Arial Black"/>
              </a:rPr>
              <a:t>Who are they?</a:t>
            </a:r>
            <a:endParaRPr b="0" lang="en-US" sz="3600" spc="-1" strike="noStrike">
              <a:solidFill>
                <a:srgbClr val="00ffff"/>
              </a:solidFill>
              <a:latin typeface="Arial Black"/>
            </a:endParaRPr>
          </a:p>
        </p:txBody>
      </p:sp>
      <p:pic>
        <p:nvPicPr>
          <p:cNvPr id="417" name="Содержимое 4" descr="250px-Elizabeth_II.jpg"/>
          <p:cNvPicPr/>
          <p:nvPr/>
        </p:nvPicPr>
        <p:blipFill>
          <a:blip r:embed="rId1"/>
          <a:stretch/>
        </p:blipFill>
        <p:spPr>
          <a:xfrm>
            <a:off x="685800" y="838080"/>
            <a:ext cx="2048040" cy="2514600"/>
          </a:xfrm>
          <a:prstGeom prst="rect">
            <a:avLst/>
          </a:prstGeom>
          <a:ln w="0">
            <a:noFill/>
          </a:ln>
        </p:spPr>
      </p:pic>
      <p:pic>
        <p:nvPicPr>
          <p:cNvPr id="418" name="Содержимое 5" descr="270px-HoratioNelson1.jpg"/>
          <p:cNvPicPr/>
          <p:nvPr/>
        </p:nvPicPr>
        <p:blipFill>
          <a:blip r:embed="rId2"/>
          <a:stretch/>
        </p:blipFill>
        <p:spPr>
          <a:xfrm>
            <a:off x="685800" y="3809880"/>
            <a:ext cx="1905120" cy="2540160"/>
          </a:xfrm>
          <a:prstGeom prst="rect">
            <a:avLst/>
          </a:prstGeom>
          <a:ln w="0">
            <a:noFill/>
          </a:ln>
        </p:spPr>
      </p:pic>
      <p:pic>
        <p:nvPicPr>
          <p:cNvPr id="419" name="Рисунок 7" descr="kristi_agata.jpg"/>
          <p:cNvPicPr/>
          <p:nvPr/>
        </p:nvPicPr>
        <p:blipFill>
          <a:blip r:embed="rId3"/>
          <a:stretch/>
        </p:blipFill>
        <p:spPr>
          <a:xfrm>
            <a:off x="3505320" y="838080"/>
            <a:ext cx="1935000" cy="2538360"/>
          </a:xfrm>
          <a:prstGeom prst="rect">
            <a:avLst/>
          </a:prstGeom>
          <a:ln w="0">
            <a:noFill/>
          </a:ln>
        </p:spPr>
      </p:pic>
      <p:pic>
        <p:nvPicPr>
          <p:cNvPr id="420" name="Рисунок 8" descr="дарвин.jpg"/>
          <p:cNvPicPr/>
          <p:nvPr/>
        </p:nvPicPr>
        <p:blipFill>
          <a:blip r:embed="rId4"/>
          <a:stretch/>
        </p:blipFill>
        <p:spPr>
          <a:xfrm>
            <a:off x="3422520" y="3809880"/>
            <a:ext cx="2292480" cy="2522520"/>
          </a:xfrm>
          <a:prstGeom prst="rect">
            <a:avLst/>
          </a:prstGeom>
          <a:ln w="0">
            <a:noFill/>
          </a:ln>
        </p:spPr>
      </p:pic>
      <p:pic>
        <p:nvPicPr>
          <p:cNvPr id="421" name="Рисунок 9" descr="40_01_00.jpg"/>
          <p:cNvPicPr/>
          <p:nvPr/>
        </p:nvPicPr>
        <p:blipFill>
          <a:blip r:embed="rId5"/>
          <a:stretch/>
        </p:blipFill>
        <p:spPr>
          <a:xfrm>
            <a:off x="6384960" y="838080"/>
            <a:ext cx="1968480" cy="2505240"/>
          </a:xfrm>
          <a:prstGeom prst="rect">
            <a:avLst/>
          </a:prstGeom>
          <a:ln w="0">
            <a:noFill/>
          </a:ln>
        </p:spPr>
      </p:pic>
      <p:sp>
        <p:nvSpPr>
          <p:cNvPr id="422" name="TextBox 10"/>
          <p:cNvSpPr/>
          <p:nvPr/>
        </p:nvSpPr>
        <p:spPr>
          <a:xfrm>
            <a:off x="609480" y="33526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ffff"/>
                </a:solidFill>
                <a:latin typeface="Arial Black"/>
              </a:rPr>
              <a:t>Elizabeth  II</a:t>
            </a:r>
            <a:endParaRPr b="0" lang="en-US" sz="2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3" name="TextBox 11"/>
          <p:cNvSpPr/>
          <p:nvPr/>
        </p:nvSpPr>
        <p:spPr>
          <a:xfrm>
            <a:off x="3505320" y="33526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ffff"/>
                </a:solidFill>
                <a:latin typeface="Arial Black"/>
              </a:rPr>
              <a:t>A. Christie</a:t>
            </a:r>
            <a:endParaRPr b="0" lang="en-US" sz="2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4" name="TextBox 12"/>
          <p:cNvSpPr/>
          <p:nvPr/>
        </p:nvSpPr>
        <p:spPr>
          <a:xfrm>
            <a:off x="6324480" y="33526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ffff"/>
                </a:solidFill>
                <a:latin typeface="Arial Black"/>
              </a:rPr>
              <a:t>M. Thatcher</a:t>
            </a:r>
            <a:endParaRPr b="0" lang="en-US" sz="20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425" name="Рисунок 13" descr="14285433_Charlie_Chaplin_001.jpg"/>
          <p:cNvPicPr/>
          <p:nvPr/>
        </p:nvPicPr>
        <p:blipFill>
          <a:blip r:embed="rId6"/>
          <a:stretch/>
        </p:blipFill>
        <p:spPr>
          <a:xfrm>
            <a:off x="6400800" y="3809880"/>
            <a:ext cx="2065320" cy="2514600"/>
          </a:xfrm>
          <a:prstGeom prst="rect">
            <a:avLst/>
          </a:prstGeom>
          <a:ln w="0">
            <a:noFill/>
          </a:ln>
        </p:spPr>
      </p:pic>
      <p:sp>
        <p:nvSpPr>
          <p:cNvPr id="426" name="TextBox 14"/>
          <p:cNvSpPr/>
          <p:nvPr/>
        </p:nvSpPr>
        <p:spPr>
          <a:xfrm>
            <a:off x="685800" y="63244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ffff"/>
                </a:solidFill>
                <a:latin typeface="Arial Black"/>
              </a:rPr>
              <a:t>H. Nelson</a:t>
            </a:r>
            <a:endParaRPr b="0" lang="en-US" sz="2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7" name="TextBox 15"/>
          <p:cNvSpPr/>
          <p:nvPr/>
        </p:nvSpPr>
        <p:spPr>
          <a:xfrm>
            <a:off x="3429000" y="63244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ffff"/>
                </a:solidFill>
                <a:latin typeface="Arial Black"/>
              </a:rPr>
              <a:t>Ch. Darwin</a:t>
            </a:r>
            <a:endParaRPr b="0" lang="en-US" sz="2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8" name="TextBox 16"/>
          <p:cNvSpPr/>
          <p:nvPr/>
        </p:nvSpPr>
        <p:spPr>
          <a:xfrm>
            <a:off x="6400800" y="63244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ffff"/>
                </a:solidFill>
                <a:latin typeface="Arial Black"/>
              </a:rPr>
              <a:t>Ch. Chaplin</a:t>
            </a:r>
            <a:endParaRPr b="0" lang="en-US" sz="2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9" name="TextBox 17"/>
          <p:cNvSpPr/>
          <p:nvPr/>
        </p:nvSpPr>
        <p:spPr>
          <a:xfrm>
            <a:off x="2362320" y="91440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30" name="TextBox 18"/>
          <p:cNvSpPr/>
          <p:nvPr/>
        </p:nvSpPr>
        <p:spPr>
          <a:xfrm>
            <a:off x="5029200" y="914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31" name="TextBox 19"/>
          <p:cNvSpPr/>
          <p:nvPr/>
        </p:nvSpPr>
        <p:spPr>
          <a:xfrm>
            <a:off x="7924680" y="914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 Black"/>
              </a:rPr>
              <a:t>3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32" name="TextBox 20"/>
          <p:cNvSpPr/>
          <p:nvPr/>
        </p:nvSpPr>
        <p:spPr>
          <a:xfrm>
            <a:off x="2133720" y="396252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33" name="TextBox 21"/>
          <p:cNvSpPr/>
          <p:nvPr/>
        </p:nvSpPr>
        <p:spPr>
          <a:xfrm>
            <a:off x="5257800" y="38862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 Black"/>
              </a:rPr>
              <a:t>5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34" name="TextBox 22"/>
          <p:cNvSpPr/>
          <p:nvPr/>
        </p:nvSpPr>
        <p:spPr>
          <a:xfrm>
            <a:off x="8001000" y="38862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 Black"/>
              </a:rPr>
              <a:t>6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  <p:transition>
    <p:push dir="r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24,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24,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24,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24,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24,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24,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8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24,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24,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8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24,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24,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8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24,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24,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8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a</dc:creator>
  <dc:description/>
  <dc:language>en-US</dc:language>
  <cp:lastModifiedBy>User</cp:lastModifiedBy>
  <dcterms:modified xsi:type="dcterms:W3CDTF">2013-02-26T19:02:26Z</dcterms:modified>
  <cp:revision>1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