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D39B-3678-4E3B-909A-5517269ED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2DC8-C51C-499F-BD50-078D0442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BB68-15B5-4D23-887A-297071631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D0D3-9FDD-4199-B228-54C8EDB0F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A6B7-D132-4FCA-96AE-37EC45AAE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D8073-BCA7-4425-9DF7-99CC0D0A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2098-D828-4077-A291-5CD82E50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2A1D-C2B7-4A32-95AD-E5B433D0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5B45-F536-4655-8EEC-54B988C9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1F10-4BD7-4BDB-A68F-63A455DA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7EA6-8BC4-42FC-81D2-4DCC6DD0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FB45-2C07-4466-B413-E46AC175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CEB1-B34E-43F4-B567-7F32000C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38CF-A47A-42DE-A2A9-DE84AAA9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2053-2719-4A4D-8F3E-57F768EF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DF7D-4635-4EA4-96CC-0C1B53382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A7B2-230E-40EF-BDDE-40296092E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14B2-7C4A-4536-84A5-FD44386E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5C33-BFA4-4F8B-ADEB-64A59113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D801-9FD1-47FB-964E-64C7D612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5AC2-371B-4648-8531-0754237C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DF3A-CD5A-481C-8374-D51FCE27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44E3-FBD8-4497-98BE-C7CAA510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C645-DB48-4DB8-B24C-4EA5A5C2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c9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2a2a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4915-B770-4588-B832-140AD0FE6C3B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2a2a40"/>
            </a:solidFill>
            <a:ln w="57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c9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2a2a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3275-6E93-458A-9417-7CD307050B55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660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testpilot.ru/espace/bibl/golovanov/doroga/24.html" TargetMode="External"/><Relationship Id="rId2" Type="http://schemas.openxmlformats.org/officeDocument/2006/relationships/hyperlink" Target="http://www.sgap.ru/news.phtml?22-04-2009-2" TargetMode="External"/><Relationship Id="rId3" Type="http://schemas.openxmlformats.org/officeDocument/2006/relationships/hyperlink" Target="http://www.spr.ru/novosti/2011-04/roskosmos-rassekretil-gibel-yuriya-gagarina.html" TargetMode="External"/><Relationship Id="rId4" Type="http://schemas.openxmlformats.org/officeDocument/2006/relationships/hyperlink" Target="http://www.sports.ru/tribuna/blogs/kaleidoscope/179597.html" TargetMode="External"/><Relationship Id="rId5" Type="http://schemas.openxmlformats.org/officeDocument/2006/relationships/hyperlink" Target="http://www.sports.ru/tribuna/blogs/kaleidoscope/179597.html" TargetMode="External"/><Relationship Id="rId6" Type="http://schemas.openxmlformats.org/officeDocument/2006/relationships/hyperlink" Target="http://www.sports.ru/tribuna/blogs/kaleidoscope/179597.html" TargetMode="External"/><Relationship Id="rId7" Type="http://schemas.openxmlformats.org/officeDocument/2006/relationships/hyperlink" Target="http://www.sports.ru/tribuna/blogs/kaleidoscope/179597.html" TargetMode="External"/><Relationship Id="rId8" Type="http://schemas.openxmlformats.org/officeDocument/2006/relationships/hyperlink" Target="http://www.sports.ru/tribuna/blogs/kaleidoscope/179597.html" TargetMode="External"/><Relationship Id="rId9" Type="http://schemas.openxmlformats.org/officeDocument/2006/relationships/hyperlink" Target="http://www.sports.ru/tribuna/blogs/kaleidoscope/179597.html" TargetMode="External"/><Relationship Id="rId10" Type="http://schemas.openxmlformats.org/officeDocument/2006/relationships/hyperlink" Target="http://www.sports.ru/tribuna/blogs/kaleidoscope/179597.html" TargetMode="External"/><Relationship Id="rId11" Type="http://schemas.openxmlformats.org/officeDocument/2006/relationships/hyperlink" Target="http://www.sports.ru/tribuna/blogs/kaleidoscope/179597.html" TargetMode="External"/><Relationship Id="rId12" Type="http://schemas.openxmlformats.org/officeDocument/2006/relationships/hyperlink" Target="http://www.sports.ru/tribuna/blogs/kaleidoscope/179597.html" TargetMode="External"/><Relationship Id="rId13" Type="http://schemas.openxmlformats.org/officeDocument/2006/relationships/hyperlink" Target="http://www.sports.ru/tribuna/blogs/kaleidoscope/179597.html" TargetMode="External"/><Relationship Id="rId1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He was the first</a:t>
            </a: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56000" y="2476440"/>
            <a:ext cx="33019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Arial"/>
              </a:rPr>
              <a:t>Yuri Gagarin is the first cosmonaut of the world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Картинка 8 из 49616"/>
          <p:cNvPicPr/>
          <p:nvPr/>
        </p:nvPicPr>
        <p:blipFill>
          <a:blip r:embed="rId1"/>
          <a:stretch/>
        </p:blipFill>
        <p:spPr>
          <a:xfrm>
            <a:off x="3049560" y="1600200"/>
            <a:ext cx="30434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Arial"/>
              </a:rPr>
              <a:t>Yuri Gagarin was born in the village of Klushino in Smolensk region on the 9-th of March, 1934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65160" y="2120760"/>
            <a:ext cx="3978360" cy="26877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003640" y="3487680"/>
            <a:ext cx="323064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Yuri Gagarin was a student of Technical Secondary School in Saratov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036800" y="1838160"/>
            <a:ext cx="3948120" cy="2482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084720" y="2421000"/>
            <a:ext cx="251784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Arial"/>
              </a:rPr>
              <a:t>Yuri Gagarin  was a member of the aeroclub in Saratov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848120" y="3033720"/>
            <a:ext cx="3670560" cy="2779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95280" y="2205000"/>
            <a:ext cx="259092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Yuri Gagarin flue into space on the spaceship “Vostok” on the 12-th of April, 196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56000" y="1773360"/>
            <a:ext cx="362556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Arial"/>
              </a:rPr>
              <a:t>Yuri Gagarin was 108 minutes in the spac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492360" y="1989000"/>
            <a:ext cx="257184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There is a monument to Yuri Gagarin in Saratov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124000" y="2349360"/>
            <a:ext cx="266400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Использованные ресурс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6600"/>
                </a:solidFill>
                <a:uFillTx/>
                <a:latin typeface="Arial"/>
                <a:hlinkClick r:id="rId1"/>
              </a:rPr>
              <a:t>www.testpilot.ru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6600"/>
                </a:solidFill>
                <a:uFillTx/>
                <a:latin typeface="Arial"/>
                <a:hlinkClick r:id="rId2"/>
              </a:rPr>
              <a:t>www.sgap.r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6600"/>
                </a:solidFill>
                <a:uFillTx/>
                <a:latin typeface="Arial"/>
                <a:hlinkClick r:id="rId3"/>
              </a:rPr>
              <a:t>http://www.spr.ru/novosti/2011-04/roskosmos-rassekretil-gibel-yuriya-gagarina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6600"/>
                </a:solidFill>
                <a:uFillTx/>
                <a:latin typeface="Arial"/>
                <a:hlinkClick r:id="rId4"/>
              </a:rPr>
              <a:t>http</a:t>
            </a:r>
            <a:r>
              <a:rPr b="0" lang="ru-RU" sz="3200" spc="-1" strike="noStrike" u="sng">
                <a:solidFill>
                  <a:srgbClr val="cc6600"/>
                </a:solidFill>
                <a:uFillTx/>
                <a:latin typeface="Arial"/>
                <a:hlinkClick r:id="rId5"/>
              </a:rPr>
              <a:t>://</a:t>
            </a:r>
            <a:r>
              <a:rPr b="0" lang="ru-RU" sz="3200" spc="-1" strike="noStrike" u="sng">
                <a:solidFill>
                  <a:srgbClr val="cc6600"/>
                </a:solidFill>
                <a:uFillTx/>
                <a:latin typeface="Arial"/>
                <a:hlinkClick r:id="rId6"/>
              </a:rPr>
              <a:t>www.sports.ru</a:t>
            </a:r>
            <a:r>
              <a:rPr b="0" lang="ru-RU" sz="3200" spc="-1" strike="noStrike" u="sng">
                <a:solidFill>
                  <a:srgbClr val="cc6600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3200" spc="-1" strike="noStrike" u="sng">
                <a:solidFill>
                  <a:srgbClr val="cc6600"/>
                </a:solidFill>
                <a:uFillTx/>
                <a:latin typeface="Arial"/>
                <a:hlinkClick r:id="rId8"/>
              </a:rPr>
              <a:t>tribuna</a:t>
            </a:r>
            <a:r>
              <a:rPr b="0" lang="ru-RU" sz="3200" spc="-1" strike="noStrike" u="sng">
                <a:solidFill>
                  <a:srgbClr val="cc6600"/>
                </a:solidFill>
                <a:uFillTx/>
                <a:latin typeface="Arial"/>
                <a:hlinkClick r:id="rId9"/>
              </a:rPr>
              <a:t>/</a:t>
            </a:r>
            <a:r>
              <a:rPr b="0" lang="ru-RU" sz="3200" spc="-1" strike="noStrike" u="sng">
                <a:solidFill>
                  <a:srgbClr val="cc6600"/>
                </a:solidFill>
                <a:uFillTx/>
                <a:latin typeface="Arial"/>
                <a:hlinkClick r:id="rId10"/>
              </a:rPr>
              <a:t>blogs</a:t>
            </a:r>
            <a:r>
              <a:rPr b="0" lang="ru-RU" sz="3200" spc="-1" strike="noStrike" u="sng">
                <a:solidFill>
                  <a:srgbClr val="cc6600"/>
                </a:solidFill>
                <a:uFillTx/>
                <a:latin typeface="Arial"/>
                <a:hlinkClick r:id="rId11"/>
              </a:rPr>
              <a:t>/</a:t>
            </a:r>
            <a:r>
              <a:rPr b="0" lang="ru-RU" sz="3200" spc="-1" strike="noStrike" u="sng">
                <a:solidFill>
                  <a:srgbClr val="cc6600"/>
                </a:solidFill>
                <a:uFillTx/>
                <a:latin typeface="Arial"/>
                <a:hlinkClick r:id="rId12"/>
              </a:rPr>
              <a:t>kaleidoscope</a:t>
            </a:r>
            <a:r>
              <a:rPr b="0" lang="ru-RU" sz="3200" spc="-1" strike="noStrike" u="sng">
                <a:solidFill>
                  <a:srgbClr val="cc6600"/>
                </a:solidFill>
                <a:uFillTx/>
                <a:latin typeface="Arial"/>
                <a:hlinkClick r:id="rId13"/>
              </a:rPr>
              <a:t>/179597.html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14:33:21Z</dcterms:created>
  <dc:creator>User</dc:creator>
  <dc:description/>
  <dc:language>en-US</dc:language>
  <cp:lastModifiedBy>User</cp:lastModifiedBy>
  <dcterms:modified xsi:type="dcterms:W3CDTF">2013-02-26T19:01:30Z</dcterms:modified>
  <cp:revision>3</cp:revision>
  <dc:subject/>
  <dc:title>Слайд 1</dc:title>
</cp:coreProperties>
</file>