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image4.png" ContentType="image/png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16776-EA1E-4DFB-9AC4-FA54D90803F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E983A-0D16-4E69-B195-BB2857B4FAF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E9888-F8C0-4502-8633-F436A8CA12E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18DC7-85B6-40D5-BC8C-1A86DDB8058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11484-4F74-44F5-97F7-BFE1E2255BD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51C53-2F85-479C-94E1-087802D5C78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7FDF-14B2-4BE1-B321-12AEF2D0B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5195-F25E-4A15-9989-9BAC2F69E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C09E-8D35-49C3-9F90-DCDCAFD45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A6EC-F490-4A3A-AB78-7F2476649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505DF-45D5-4A0D-88AD-9FA2A0275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F31C3-EFF2-44AA-A85C-B3015A07F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A8F35-5AA5-4126-9D78-A0EEE23C6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F440B-337F-4A4E-A1A9-A5D7D4688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4757D-869F-4F41-8D57-05BCE0E83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CE9BE-6C25-41A1-8DA0-B47056B44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791CD-C26F-4026-90E7-01B4E0E5D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7D19-67B9-4052-A1D8-A62E0041F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D3FEC-B376-407D-968B-F28BAD76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02369-6068-4287-93D8-93451F83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42B8D-C871-4E92-AB49-DFDB35E9D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42924-BD4F-4493-80F9-F5FCD9254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8E782-9AFB-4476-BD78-DC3162CC3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6576-481F-45C3-A992-B2A9E0110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DDCC-3A17-4BAF-8806-2D1057A8C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5099-B437-4483-98CB-E8B43B5F9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D7CE-4C59-4C15-A749-5D65F5929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79F1-5BA4-417A-BEEC-980A9D0C5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DD68-C3BB-44A8-B6EB-75EF8248D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4F54-4965-4427-9897-41A650C1C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C8332-791C-41F3-B617-BED9F6A8B85B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41BF8-CBEE-4BCC-B222-444FAF6C2D2A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4"/>
          <p:cNvSpPr/>
          <p:nvPr/>
        </p:nvSpPr>
        <p:spPr>
          <a:xfrm>
            <a:off x="324000" y="620640"/>
            <a:ext cx="763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Monotype Corsiva"/>
              </a:rPr>
              <a:t>Battlefield   or  bed  of  roses ?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5" descr="hart!"/>
          <p:cNvPicPr/>
          <p:nvPr/>
        </p:nvPicPr>
        <p:blipFill>
          <a:blip r:embed="rId1"/>
          <a:stretch/>
        </p:blipFill>
        <p:spPr>
          <a:xfrm>
            <a:off x="684360" y="1700280"/>
            <a:ext cx="7775280" cy="47718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j0236214"/>
          <p:cNvPicPr/>
          <p:nvPr/>
        </p:nvPicPr>
        <p:blipFill>
          <a:blip r:embed="rId2"/>
          <a:stretch/>
        </p:blipFill>
        <p:spPr>
          <a:xfrm>
            <a:off x="7885080" y="333360"/>
            <a:ext cx="1050840" cy="9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755640" y="476280"/>
            <a:ext cx="184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1111680" y="333360"/>
            <a:ext cx="7256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cc"/>
                </a:solidFill>
                <a:latin typeface="Comic Sans MS"/>
              </a:rPr>
              <a:t>What  does  it  mean  for  you 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Rectangle 11"/>
          <p:cNvSpPr/>
          <p:nvPr/>
        </p:nvSpPr>
        <p:spPr>
          <a:xfrm>
            <a:off x="1392480" y="260280"/>
            <a:ext cx="597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Monotype Corsiva"/>
              </a:rPr>
              <a:t>Being  in  love …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14" descr="1"/>
          <p:cNvPicPr/>
          <p:nvPr/>
        </p:nvPicPr>
        <p:blipFill>
          <a:blip r:embed="rId1"/>
          <a:stretch/>
        </p:blipFill>
        <p:spPr>
          <a:xfrm>
            <a:off x="1258920" y="2570040"/>
            <a:ext cx="6912000" cy="4287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5" descr="12259"/>
          <p:cNvPicPr/>
          <p:nvPr/>
        </p:nvPicPr>
        <p:blipFill>
          <a:blip r:embed="rId2"/>
          <a:stretch/>
        </p:blipFill>
        <p:spPr>
          <a:xfrm>
            <a:off x="7093080" y="404640"/>
            <a:ext cx="142848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584640" y="500040"/>
            <a:ext cx="78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Choose  any  5  definitions  you  lik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779040" y="1484280"/>
            <a:ext cx="75495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1. …is more like being on a battlefield than in a bed of ros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1800" spc="-1" strike="noStrike">
                <a:solidFill>
                  <a:srgbClr val="009900"/>
                </a:solidFill>
                <a:latin typeface="Arial Narrow"/>
              </a:rPr>
              <a:t>2. …is all you ne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800" spc="-1" strike="noStrike">
                <a:solidFill>
                  <a:srgbClr val="d60093"/>
                </a:solidFill>
                <a:latin typeface="Arial Narrow"/>
              </a:rPr>
              <a:t>3. …makes you smi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1" lang="en-US" sz="1800" spc="-1" strike="noStrike">
                <a:solidFill>
                  <a:srgbClr val="3333cc"/>
                </a:solidFill>
                <a:latin typeface="Arial Narrow"/>
              </a:rPr>
              <a:t>4. …makes you loose contro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5. …is bad for your healt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                  </a:t>
            </a:r>
            <a:r>
              <a:rPr b="1" lang="en-US" sz="1800" spc="-1" strike="noStrike">
                <a:solidFill>
                  <a:srgbClr val="666600"/>
                </a:solidFill>
                <a:latin typeface="Arial Narrow"/>
              </a:rPr>
              <a:t>6. …is only for young peop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                       </a:t>
            </a:r>
            <a:r>
              <a:rPr b="1" lang="en-US" sz="1800" spc="-1" strike="noStrike">
                <a:solidFill>
                  <a:srgbClr val="990000"/>
                </a:solidFill>
                <a:latin typeface="Arial Narrow"/>
              </a:rPr>
              <a:t>7. …is better than having all the money in the worl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                               </a:t>
            </a:r>
            <a:r>
              <a:rPr b="1" lang="en-US" sz="1800" spc="-1" strike="noStrike">
                <a:solidFill>
                  <a:srgbClr val="cc9900"/>
                </a:solidFill>
                <a:latin typeface="Arial Narrow"/>
              </a:rPr>
              <a:t>8. …means wedding bell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                                    </a:t>
            </a:r>
            <a:r>
              <a:rPr b="1" lang="en-US" sz="1800" spc="-1" strike="noStrike">
                <a:solidFill>
                  <a:srgbClr val="ff00ff"/>
                </a:solidFill>
                <a:latin typeface="Arial Narrow"/>
              </a:rPr>
              <a:t>9. …quickly changes to habi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                           </a:t>
            </a:r>
            <a:r>
              <a:rPr b="1" lang="en-US" sz="1800" spc="-1" strike="noStrike">
                <a:solidFill>
                  <a:srgbClr val="3333cc"/>
                </a:solidFill>
                <a:latin typeface="Arial Narrow"/>
              </a:rPr>
              <a:t>10. … is like being on a roller-coaster – one minute you’re hig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Narrow"/>
              </a:rPr>
              <a:t>                                     </a:t>
            </a:r>
            <a:r>
              <a:rPr b="1" lang="en-US" sz="1800" spc="-1" strike="noStrike">
                <a:solidFill>
                  <a:srgbClr val="3333cc"/>
                </a:solidFill>
                <a:latin typeface="Arial Narrow"/>
              </a:rPr>
              <a:t>and the next minute you’re very low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                       </a:t>
            </a:r>
            <a:r>
              <a:rPr b="1" lang="en-US" sz="1800" spc="-1" strike="noStrike">
                <a:solidFill>
                  <a:srgbClr val="009900"/>
                </a:solidFill>
                <a:latin typeface="Arial Narrow"/>
              </a:rPr>
              <a:t>11. …is the strongest emotion you will ever fe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                 </a:t>
            </a:r>
            <a:r>
              <a:rPr b="1" lang="en-US" sz="1800" spc="-1" strike="noStrike">
                <a:solidFill>
                  <a:srgbClr val="6600ff"/>
                </a:solidFill>
                <a:latin typeface="Arial Narrow"/>
              </a:rPr>
              <a:t>12. …is painfu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13. …is playing a fool’s gam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1" lang="en-US" sz="1800" spc="-1" strike="noStrike">
                <a:solidFill>
                  <a:srgbClr val="0033cc"/>
                </a:solidFill>
                <a:latin typeface="Arial Narrow"/>
              </a:rPr>
              <a:t>14. …is hearts and flow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1" lang="en-US" sz="1800" spc="-1" strike="noStrike">
                <a:solidFill>
                  <a:srgbClr val="cc9900"/>
                </a:solidFill>
                <a:latin typeface="Arial Narrow"/>
              </a:rPr>
              <a:t>15. …is the chocolate sauce on the vanilla ice-cream of life-without it life is ni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9900"/>
                </a:solidFill>
                <a:latin typeface="Arial Narrow"/>
              </a:rPr>
              <a:t>              </a:t>
            </a:r>
            <a:r>
              <a:rPr b="1" lang="en-US" sz="1800" spc="-1" strike="noStrike">
                <a:solidFill>
                  <a:srgbClr val="cc9900"/>
                </a:solidFill>
                <a:latin typeface="Arial Narrow"/>
              </a:rPr>
              <a:t>but not deliciou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16. …distracts you from the more important things in lif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7" descr="AG00317_"/>
          <p:cNvPicPr/>
          <p:nvPr/>
        </p:nvPicPr>
        <p:blipFill>
          <a:blip r:embed="rId1"/>
          <a:stretch/>
        </p:blipFill>
        <p:spPr>
          <a:xfrm>
            <a:off x="419040" y="2852640"/>
            <a:ext cx="1488960" cy="1944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12259"/>
          <p:cNvPicPr/>
          <p:nvPr/>
        </p:nvPicPr>
        <p:blipFill>
          <a:blip r:embed="rId2"/>
          <a:stretch/>
        </p:blipFill>
        <p:spPr>
          <a:xfrm>
            <a:off x="6588000" y="1773360"/>
            <a:ext cx="164484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592200" y="2003400"/>
            <a:ext cx="527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687240" y="426960"/>
            <a:ext cx="798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Comic Sans MS"/>
              </a:rPr>
              <a:t>Look  and  find  out  your categor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539640" y="1773360"/>
          <a:ext cx="8209080" cy="3019320"/>
        </p:xfrm>
        <a:graphic>
          <a:graphicData uri="http://schemas.openxmlformats.org/drawingml/2006/table">
            <a:tbl>
              <a:tblPr/>
              <a:tblGrid>
                <a:gridCol w="2735280"/>
                <a:gridCol w="2809800"/>
                <a:gridCol w="2664000"/>
              </a:tblGrid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1" lang="en-US" sz="2800" spc="-1" strike="noStrike">
                          <a:solidFill>
                            <a:srgbClr val="d60093"/>
                          </a:solidFill>
                          <a:latin typeface="Verdana"/>
                        </a:rPr>
                        <a:t>CINIC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Verdana"/>
                        </a:rPr>
                        <a:t>ROMANT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Verdana"/>
                        </a:rPr>
                        <a:t>REALIST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6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, 5, 6, 12, 13, 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, 7, 11, 14, 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 3, 8, 9, 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</a:tbl>
          </a:graphicData>
        </a:graphic>
      </p:graphicFrame>
      <p:pic>
        <p:nvPicPr>
          <p:cNvPr id="112" name="Picture 26" descr="AG00403_"/>
          <p:cNvPicPr/>
          <p:nvPr/>
        </p:nvPicPr>
        <p:blipFill>
          <a:blip r:embed="rId1"/>
          <a:stretch/>
        </p:blipFill>
        <p:spPr>
          <a:xfrm>
            <a:off x="3635280" y="4941720"/>
            <a:ext cx="2232000" cy="15433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8" descr="AG00013_"/>
          <p:cNvPicPr/>
          <p:nvPr/>
        </p:nvPicPr>
        <p:blipFill>
          <a:blip r:embed="rId2"/>
          <a:stretch/>
        </p:blipFill>
        <p:spPr>
          <a:xfrm>
            <a:off x="6804000" y="5013360"/>
            <a:ext cx="1944720" cy="1511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1" descr="j0282737"/>
          <p:cNvPicPr/>
          <p:nvPr/>
        </p:nvPicPr>
        <p:blipFill>
          <a:blip r:embed="rId3"/>
          <a:stretch/>
        </p:blipFill>
        <p:spPr>
          <a:xfrm>
            <a:off x="900000" y="4869000"/>
            <a:ext cx="165600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hart!"/>
          <p:cNvPicPr/>
          <p:nvPr/>
        </p:nvPicPr>
        <p:blipFill>
          <a:blip r:embed="rId2"/>
          <a:stretch/>
        </p:blipFill>
        <p:spPr>
          <a:xfrm>
            <a:off x="-52560" y="1214280"/>
            <a:ext cx="9196560" cy="5643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4000" cy="121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0066"/>
                </a:solidFill>
                <a:latin typeface="comic"/>
              </a:rPr>
              <a:t>L O V E    I S …</a:t>
            </a:r>
            <a:endParaRPr b="0" lang="en-US" sz="100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0T14:00:51Z</dcterms:created>
  <dc:creator>Галина Сергеевна</dc:creator>
  <dc:description/>
  <dc:language>en-US</dc:language>
  <cp:lastModifiedBy>Наталья</cp:lastModifiedBy>
  <dcterms:modified xsi:type="dcterms:W3CDTF">2009-01-28T15:20:47Z</dcterms:modified>
  <cp:revision>7</cp:revision>
  <dc:subject/>
  <dc:title>Слайд 1</dc:title>
</cp:coreProperties>
</file>