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AE04-66F7-4A68-A849-3E30DF5A65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87BC-4BAC-41FF-89C1-3CEC603D6A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9F74-D7A3-416F-ACEF-273279FDF8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5A70-CEB6-43F7-B6FF-34A3FD246D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BC33-9BF2-41AB-B58B-09EEFA97F8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11B4-E050-457B-A341-89345AFB87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1755-BCBB-4A69-AEDC-F232B349C4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9244-EDFF-4A6D-84C2-7E5EDA7B95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A83B-8ACC-4ACA-A0BF-C3EBE337CA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49FF-A69B-4B22-980A-36971FB41A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9248-C8B6-4A00-9313-8A5A03E057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FB5D-1ECF-4DB2-B8DF-FEC406B027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8C73-445A-4BE0-9B1D-C98280D668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1F39-3927-456D-823B-E52A4A5042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0624-60E7-42E3-BCDE-E96045F987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2A1A-FAB1-4DD4-B78A-0ED0A22A61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E2A5-94CD-47DA-9634-277908F4EF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A464-84D7-4D1C-95EE-5F0779C9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091-4483-434F-9719-ECC92D32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D26-B107-4D64-9C3D-9D7EA371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3CA-4C60-49FA-A8FC-932A4E16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49B4-603F-43D3-996B-7F03F46E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F44F-7DE6-425C-8C5E-2F7716ED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6BD-7678-4536-A4E8-ECD8B6D2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FF6-E9F4-42E3-99BD-A1DF167E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DCB-632E-4F4F-A7C2-F87E523C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077-93D8-4794-A6FA-0B8C42B4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6A1-CC60-4C8F-9E39-BD274D42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AD4-C306-46EE-AE52-638B3FF8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3BA9-800B-4CE5-BE3C-56329B133F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img-d50c6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28760" y="4428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32523"/>
                </a:solidFill>
                <a:latin typeface="Monotype Corsiva"/>
              </a:rPr>
              <a:t>Story in Rebuses</a:t>
            </a:r>
            <a:r>
              <a:rPr b="1" i="1" lang="ru-RU" sz="6000" spc="-1" strike="noStrike">
                <a:solidFill>
                  <a:srgbClr val="632523"/>
                </a:solidFill>
                <a:latin typeface="Monotype Corsiva"/>
              </a:rPr>
              <a:t>:</a:t>
            </a:r>
            <a:r>
              <a:rPr b="1" i="1" lang="en-US" sz="6000" spc="-1" strike="noStrike">
                <a:solidFill>
                  <a:srgbClr val="632523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32523"/>
                </a:solidFill>
                <a:latin typeface="Monotype Corsiva"/>
              </a:rPr>
              <a:t>“</a:t>
            </a:r>
            <a:r>
              <a:rPr b="1" i="1" lang="en-US" sz="6000" spc="-1" strike="noStrike">
                <a:solidFill>
                  <a:srgbClr val="632523"/>
                </a:solidFill>
                <a:latin typeface="Monotype Corsiva"/>
              </a:rPr>
              <a:t>Saint Valentine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" dur="1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" dur="1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" dur="1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" dur="1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1" dur="1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" dur="1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200"/>
                            </p:stCondLst>
                            <p:childTnLst>
                              <p:par>
                                <p:cTn id="3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13840" y="1071720"/>
            <a:ext cx="864396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Matura MT Script Capitals"/>
              </a:rPr>
              <a:t>What do young people usually give each other on this day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13840" y="1071720"/>
            <a:ext cx="864396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Matura MT Script Capitals"/>
              </a:rPr>
              <a:t>Why is Valentine’s Day celebrated on the 14</a:t>
            </a:r>
            <a:r>
              <a:rPr b="0" i="1" lang="en-US" sz="8000" spc="-1" strike="noStrike" baseline="30000">
                <a:solidFill>
                  <a:srgbClr val="000000"/>
                </a:solidFill>
                <a:latin typeface="Matura MT Script Capitals"/>
              </a:rPr>
              <a:t>th</a:t>
            </a:r>
            <a:r>
              <a:rPr b="0" i="1" lang="en-US" sz="8000" spc="-1" strike="noStrike">
                <a:solidFill>
                  <a:srgbClr val="000000"/>
                </a:solidFill>
                <a:latin typeface="Matura MT Script Capitals"/>
              </a:rPr>
              <a:t> of February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13840" y="1071720"/>
            <a:ext cx="864396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Matura MT Script Capitals"/>
              </a:rPr>
              <a:t>Why was Valentine imprisoned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85480" y="499680"/>
            <a:ext cx="86439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Matura MT Script Capitals"/>
              </a:rPr>
              <a:t>When was the custom (the first person you see will be your valentine) well established in Britai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img-1a3c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3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igPinkHeart"/>
          <p:cNvPicPr/>
          <p:nvPr/>
        </p:nvPicPr>
        <p:blipFill>
          <a:blip r:embed="rId1"/>
          <a:stretch/>
        </p:blipFill>
        <p:spPr>
          <a:xfrm>
            <a:off x="1928880" y="-428760"/>
            <a:ext cx="5124240" cy="786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img-5c6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3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0040" y="14256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happened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1)                     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- y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ears ag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ancient Rome there lived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2)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                 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’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lled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3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Valen-ŧ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 married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4)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’ c                     ee”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oung coup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5) </a:t>
            </a:r>
            <a:r>
              <a:rPr b="1" lang="en-US" sz="3200" spc="-1" strike="noStrike" u="sng" baseline="30000">
                <a:solidFill>
                  <a:srgbClr val="ff0000"/>
                </a:solidFill>
                <a:uFillTx/>
                <a:latin typeface="Calibri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alibri"/>
              </a:rPr>
              <a:t>t </a:t>
            </a:r>
            <a:r>
              <a:rPr b="1" lang="en-US" sz="3200" spc="-1" strike="noStrike" u="sng" baseline="-25000">
                <a:solidFill>
                  <a:srgbClr val="ff0000"/>
                </a:solidFill>
                <a:uFillTx/>
                <a:latin typeface="Calibri"/>
              </a:rPr>
              <a:t>rar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the Emperor’s ord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D:\фотографии\PHOTO-PICTTURES\Люди\Мужчины\00020770.jpg"/>
          <p:cNvPicPr/>
          <p:nvPr/>
        </p:nvPicPr>
        <p:blipFill>
          <a:blip r:embed="rId2"/>
          <a:stretch/>
        </p:blipFill>
        <p:spPr>
          <a:xfrm>
            <a:off x="3143160" y="357120"/>
            <a:ext cx="200052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карта австралии"/>
          <p:cNvPicPr/>
          <p:nvPr/>
        </p:nvPicPr>
        <p:blipFill>
          <a:blip r:embed="rId3"/>
          <a:stretch/>
        </p:blipFill>
        <p:spPr>
          <a:xfrm>
            <a:off x="1071720" y="2571840"/>
            <a:ext cx="2214360" cy="12859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D:\фотографии\PHOTO-PICTTURES\Еда\Общее\00011342.jpg"/>
          <p:cNvPicPr/>
          <p:nvPr/>
        </p:nvPicPr>
        <p:blipFill>
          <a:blip r:embed="rId4"/>
          <a:stretch/>
        </p:blipFill>
        <p:spPr>
          <a:xfrm>
            <a:off x="3571920" y="3857760"/>
            <a:ext cx="174456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 he was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6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impr 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 u="sng" baseline="30000">
                <a:solidFill>
                  <a:srgbClr val="ff0000"/>
                </a:solidFill>
                <a:uFillTx/>
                <a:latin typeface="Calibri"/>
              </a:rPr>
              <a:t>is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alibri"/>
              </a:rPr>
              <a:t>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y Emperor Claudius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retly marrying couples.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7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-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lentine became the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8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u="sng" baseline="30000">
                <a:solidFill>
                  <a:srgbClr val="ff0000"/>
                </a:solidFill>
                <a:uFillTx/>
                <a:latin typeface="Calibri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ro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f loves.                   Later people began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9)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’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m the saint of lov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D:\фотографии\PHOTO-PICTTURES\Животный мир\Птицы\00017533.jpg"/>
          <p:cNvPicPr/>
          <p:nvPr/>
        </p:nvPicPr>
        <p:blipFill>
          <a:blip r:embed="rId2"/>
          <a:stretch/>
        </p:blipFill>
        <p:spPr>
          <a:xfrm>
            <a:off x="5929200" y="857160"/>
            <a:ext cx="1857600" cy="1285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D:\фотографии\PHOTO-PICTTURES\Предметы\Разное\00037421.jpg"/>
          <p:cNvPicPr/>
          <p:nvPr/>
        </p:nvPicPr>
        <p:blipFill>
          <a:blip r:embed="rId3"/>
          <a:stretch/>
        </p:blipFill>
        <p:spPr>
          <a:xfrm>
            <a:off x="1857240" y="4357800"/>
            <a:ext cx="178128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2920" y="285840"/>
            <a:ext cx="87868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the 7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10)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0,01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             -ur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s holiday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 called St. Valentine’s Day. This holiday c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the British isles from ancient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man conquerors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11)                  </a:t>
            </a:r>
            <a:r>
              <a:rPr b="1" lang="en-US" sz="32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- ri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12)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eleb-             -io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f St. Valentine’s  Day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g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D:\фотографии\PHOTO-PICTTURES\Бизнес\Деньги\00007192.jpg"/>
          <p:cNvPicPr/>
          <p:nvPr/>
        </p:nvPicPr>
        <p:blipFill>
          <a:blip r:embed="rId2"/>
          <a:stretch/>
        </p:blipFill>
        <p:spPr>
          <a:xfrm>
            <a:off x="3643200" y="0"/>
            <a:ext cx="135756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D:\фотографии\PHOTO-PICTTURES\Авто\00000700.jpg"/>
          <p:cNvPicPr/>
          <p:nvPr/>
        </p:nvPicPr>
        <p:blipFill>
          <a:blip r:embed="rId3"/>
          <a:stretch/>
        </p:blipFill>
        <p:spPr>
          <a:xfrm>
            <a:off x="4929120" y="3143160"/>
            <a:ext cx="1571760" cy="1214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D:\фотографии\PHOTO-PICTTURES\Животный мир\Кролики, Белки, Грызуны\00014933.jpg"/>
          <p:cNvPicPr/>
          <p:nvPr/>
        </p:nvPicPr>
        <p:blipFill>
          <a:blip r:embed="rId4"/>
          <a:stretch/>
        </p:blipFill>
        <p:spPr>
          <a:xfrm>
            <a:off x="2000160" y="3929040"/>
            <a:ext cx="1143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Shakespeare’s time the custom the fir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son you see on this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13)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’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ll be your valentine was wel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14)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s-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                     ’-ished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hakespe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ntioned this holiday in his trage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15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for  Ophelia wanted to 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times’  at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mlet’s wind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D:\фотографии\PHOTO-PICTTURES\Дорога\00009868.jpg"/>
          <p:cNvPicPr/>
          <p:nvPr/>
        </p:nvPicPr>
        <p:blipFill>
          <a:blip r:embed="rId2"/>
          <a:stretch/>
        </p:blipFill>
        <p:spPr>
          <a:xfrm>
            <a:off x="5786280" y="785880"/>
            <a:ext cx="1785960" cy="1285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D:\фотографии\PHOTO-PICTTURES\Предметы\Мебель\00037254.jpg"/>
          <p:cNvPicPr/>
          <p:nvPr/>
        </p:nvPicPr>
        <p:blipFill>
          <a:blip r:embed="rId3"/>
          <a:stretch/>
        </p:blipFill>
        <p:spPr>
          <a:xfrm>
            <a:off x="1785960" y="2786040"/>
            <a:ext cx="2000160" cy="17146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D:\фотографии\PHOTO-PICTTURES\Национальности\Племена\00031659.jpg"/>
          <p:cNvPicPr/>
          <p:nvPr/>
        </p:nvPicPr>
        <p:blipFill>
          <a:blip r:embed="rId4"/>
          <a:stretch/>
        </p:blipFill>
        <p:spPr>
          <a:xfrm>
            <a:off x="1357200" y="5000760"/>
            <a:ext cx="135756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2" descr=""/>
          <p:cNvPicPr/>
          <p:nvPr/>
        </p:nvPicPr>
        <p:blipFill>
          <a:blip r:embed="rId2"/>
          <a:stretch/>
        </p:blipFill>
        <p:spPr>
          <a:xfrm>
            <a:off x="298440" y="274680"/>
            <a:ext cx="8394840" cy="63021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D:\фотографии\PHOTO-PICTTURES\Животный мир\Птицы\00017160.jpg"/>
          <p:cNvPicPr/>
          <p:nvPr/>
        </p:nvPicPr>
        <p:blipFill>
          <a:blip r:embed="rId3"/>
          <a:stretch/>
        </p:blipFill>
        <p:spPr>
          <a:xfrm>
            <a:off x="1785960" y="3143160"/>
            <a:ext cx="2071800" cy="12146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D:\фотографии\PHOTO-PICTTURES\Природа\Пустыня\00041359.jpg"/>
          <p:cNvPicPr/>
          <p:nvPr/>
        </p:nvPicPr>
        <p:blipFill>
          <a:blip r:embed="rId4"/>
          <a:stretch/>
        </p:blipFill>
        <p:spPr>
          <a:xfrm>
            <a:off x="4500720" y="3857760"/>
            <a:ext cx="1857240" cy="1304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D:\фотографии\PHOTO-PICTTURES\Природа\Закат\00038997.jpg"/>
          <p:cNvPicPr/>
          <p:nvPr/>
        </p:nvPicPr>
        <p:blipFill>
          <a:blip r:embed="rId5"/>
          <a:stretch/>
        </p:blipFill>
        <p:spPr>
          <a:xfrm>
            <a:off x="4857840" y="5572080"/>
            <a:ext cx="17143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y also give small gifts or greetings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(19)                 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se cards are often made in the shape of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(20)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h-                               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-t.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oung people normall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y such cards in stores, book-shops. But on “on good 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ys” people usually took a sheet of paper and  drew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art with an arrow through it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wadays printed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 many situations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(21)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ap-                      -ed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veryw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D:\фотографии\PHOTO-PICTTURES\Авто\00000700.jpg"/>
          <p:cNvPicPr/>
          <p:nvPr/>
        </p:nvPicPr>
        <p:blipFill>
          <a:blip r:embed="rId2"/>
          <a:stretch/>
        </p:blipFill>
        <p:spPr>
          <a:xfrm>
            <a:off x="6429240" y="214200"/>
            <a:ext cx="1785960" cy="9288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D:\фотографии\PHOTO-PICTTURES\Люди\Лицо\00020125.jpg"/>
          <p:cNvPicPr/>
          <p:nvPr/>
        </p:nvPicPr>
        <p:blipFill>
          <a:blip r:embed="rId3"/>
          <a:stretch/>
        </p:blipFill>
        <p:spPr>
          <a:xfrm>
            <a:off x="1428840" y="1714680"/>
            <a:ext cx="264312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D:\фотографии\PHOTO-PICTTURES\Еда\Чай и фрукты\Фрукты\00012827.jpg"/>
          <p:cNvPicPr/>
          <p:nvPr/>
        </p:nvPicPr>
        <p:blipFill>
          <a:blip r:embed="rId4"/>
          <a:stretch/>
        </p:blipFill>
        <p:spPr>
          <a:xfrm>
            <a:off x="4286160" y="4286160"/>
            <a:ext cx="17146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13840" y="1071720"/>
            <a:ext cx="864396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Matura MT Script Capitals"/>
              </a:rPr>
              <a:t>When is Saint Valentine’s Day celebrated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13840" y="1071720"/>
            <a:ext cx="864396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Matura MT Script Capitals"/>
              </a:rPr>
              <a:t>What do people in love express in their messages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3:28:07Z</dcterms:created>
  <dc:creator>Наталья</dc:creator>
  <dc:description/>
  <dc:language>en-US</dc:language>
  <cp:lastModifiedBy>User</cp:lastModifiedBy>
  <dcterms:modified xsi:type="dcterms:W3CDTF">2014-02-27T18:08:13Z</dcterms:modified>
  <cp:revision>12</cp:revision>
  <dc:subject/>
  <dc:title>Слайд 1</dc:title>
</cp:coreProperties>
</file>