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7DF-E31C-410B-8DCC-1D731629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F09-DB9E-499E-A42F-23950BC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CE4-A483-4BCC-AD82-22DD3B22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464-0270-407C-95F5-83550FAC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AF58-A7C2-4ADB-A897-E13386B0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9A5A-A210-44DE-B5C9-3887E604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5B4A-1FE5-4A1D-BD09-1C8CA05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9D8C-4CBE-4FBF-8A11-4CD115A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99BE-C0AA-497E-A16B-4335749E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85A9-2A79-4826-8DB4-44FA6844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612D-A194-4820-8E23-F1544C9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C7E-2857-4B58-A937-BC26F08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588-E2F0-4410-84AF-46B9B76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4DA-D849-4755-BEBD-B9D2DFD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B348-628A-4DA7-9EEC-2331647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8AE5-0304-4D47-81CB-1BFF62C5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F0D1-894B-41D4-8F7F-B445C598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BF3-F51B-4299-82A3-FBD323B7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27F-B9F2-4FC3-AE58-5AC14D5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D24-CD26-4AFC-942B-34C27F01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622-CEAA-4028-BD5F-D3DA9205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B2A-A315-48B9-8DC1-01FF403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10E-15F8-4587-B713-9346F1D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ED5-BF3B-44A4-B1C8-0414EA7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2371-1C3F-4D95-B6C8-14627DC68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8B34-3642-4B1E-BFCB-0C9494F0D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smos-journal.ru/news/190" TargetMode="External"/><Relationship Id="rId2" Type="http://schemas.openxmlformats.org/officeDocument/2006/relationships/hyperlink" Target="http://www.cosmos-journal.ru/news/190" TargetMode="External"/><Relationship Id="rId3" Type="http://schemas.openxmlformats.org/officeDocument/2006/relationships/hyperlink" Target="http://www.cosmos-journal.ru/news/190" TargetMode="External"/><Relationship Id="rId4" Type="http://schemas.openxmlformats.org/officeDocument/2006/relationships/hyperlink" Target="http://www.cosmos-journal.ru/news/190" TargetMode="External"/><Relationship Id="rId5" Type="http://schemas.openxmlformats.org/officeDocument/2006/relationships/hyperlink" Target="http://www.cosmos-journal.ru/news/190" TargetMode="External"/><Relationship Id="rId6" Type="http://schemas.openxmlformats.org/officeDocument/2006/relationships/hyperlink" Target="http://www.cosmos-journal.ru/news/190" TargetMode="External"/><Relationship Id="rId7" Type="http://schemas.openxmlformats.org/officeDocument/2006/relationships/hyperlink" Target="http://www.bci-moscow.ru/ru/events/?from=70" TargetMode="External"/><Relationship Id="rId8" Type="http://schemas.openxmlformats.org/officeDocument/2006/relationships/hyperlink" Target="http://clubs.ya.ru/4611686018427389077/posts.xml?tb=290" TargetMode="External"/><Relationship Id="rId9" Type="http://schemas.openxmlformats.org/officeDocument/2006/relationships/hyperlink" Target="http://clubs.ya.ru/4611686018427389077/posts.xml?tb=290" TargetMode="External"/><Relationship Id="rId10" Type="http://schemas.openxmlformats.org/officeDocument/2006/relationships/hyperlink" Target="http://clubs.ya.ru/4611686018427389077/posts.xml?tb=290" TargetMode="External"/><Relationship Id="rId11" Type="http://schemas.openxmlformats.org/officeDocument/2006/relationships/hyperlink" Target="http://clubs.ya.ru/4611686018427389077/posts.xml?tb=290" TargetMode="External"/><Relationship Id="rId12" Type="http://schemas.openxmlformats.org/officeDocument/2006/relationships/hyperlink" Target="http://ratnikjournal.narod.ru/200710/02.htm" TargetMode="External"/><Relationship Id="rId13" Type="http://schemas.openxmlformats.org/officeDocument/2006/relationships/hyperlink" Target="http://ratnikjournal.narod.ru/200710/02.htm" TargetMode="External"/><Relationship Id="rId14" Type="http://schemas.openxmlformats.org/officeDocument/2006/relationships/hyperlink" Target="http://ratnikjournal.narod.ru/200710/02.htm" TargetMode="External"/><Relationship Id="rId15" Type="http://schemas.openxmlformats.org/officeDocument/2006/relationships/hyperlink" Target="http://ratnikjournal.narod.ru/200710/02.htm" TargetMode="External"/><Relationship Id="rId16" Type="http://schemas.openxmlformats.org/officeDocument/2006/relationships/hyperlink" Target="http://www.newskaz.ru/photo/20110412/1321756_5.html" TargetMode="External"/><Relationship Id="rId17" Type="http://schemas.openxmlformats.org/officeDocument/2006/relationships/hyperlink" Target="http://www.visualrian.ru/ru/site/photo/historic/?startfrom=338904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631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Tour of Gagarin’s Places in Sarato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team “Sta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371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 start our excursion from the Technical Secondary School where Yuri Gagarin studied from 1951 till 195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 Technical Secondary School is named after Yuri Gagarin. There is a museum of the first cosmonaut  of the wor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279960" cy="2600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34192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t’s go down Babyshkin Vzvoz and we are at the monument to Yuri Gagarin which in on the Embankment of Cosmonauts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nument was built in 1995. This is a three meters  figure of Yuri Gagarin who is looking at the Volga. The Volga was his favourit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2880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t is worse to walk along the Embankment 0f Cosmonau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 building started in 1959.  In 1962 it was given a  name of Cosmonauts in honour of Yuri Gagar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40039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et’s walk up Moskovskaya street and take the first turning to the right. We see the Historical Museum of our city. There’s  a room devoted to Yuri Gagari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3960720" cy="3114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9461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e think it’s worse to visit Chernyshevski Square and Lipki Park. They were favourite places of Yuri Gagari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26258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ould you like to go by bus to Dubki?  There is an aeroclub there where Yuri Gagarin learned to fl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649600" cy="2050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5542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9152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et’s take a bus and go to the Gagarin Field. This is a place where Yuri Gagarin making one flight around the Earth landed on the 12 of April, 196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57680" cy="4286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2847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ованные сай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cosmos-journal.ru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news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19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www.bci-moscow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clubs.ya.ru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4611686018427389077/posts.xml?tb=29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ratnikjournal.narod.ru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/200710/02.ht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www.newskaz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www.visualrian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8:33:18Z</dcterms:created>
  <dc:creator>User</dc:creator>
  <dc:description/>
  <dc:language>en-US</dc:language>
  <cp:lastModifiedBy>User</cp:lastModifiedBy>
  <dcterms:modified xsi:type="dcterms:W3CDTF">2012-03-04T20:17:03Z</dcterms:modified>
  <cp:revision>3</cp:revision>
  <dc:subject/>
  <dc:title>Слайд 1</dc:title>
</cp:coreProperties>
</file>